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png" ContentType="image/png"/>
  <Override PartName="/ppt/media/image1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907588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712800" y="744120"/>
            <a:ext cx="537696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0C5B8-03DB-4090-82D0-9EB9332D9B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712800" y="744480"/>
            <a:ext cx="5375160" cy="372132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NCI provided 3 millions for study on the c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nsequences of Chernobyl 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ccident on th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roid cancer and leuk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mia dec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ea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ses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EOARD funding in the amount of 1.9 millions was provided pref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rably for basic research in the area of material science, namely tit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nium and alum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nium 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lloys that includes a one half of this funding; the other half supported research in optics, nuclear physics, s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micond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ctors, health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USDA approved 14 projects in BIO area with Uzbek institutes and funded up to date 9 of them in the amount of 2.7 millions, There are 4projects at the Institute of Gen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tics and Plant Experimental Biology, 2 projects at the Institute of Bioorg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nic Chemistry, 2 projects at the Institute of Zo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logy, and 1 at the Cotton Growing Res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ea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rch Institute. The list of the projects will be provided later in this presentation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IPP supported 9 projects in the amount of 3.6 millions, the most of these projects are dealing with the pre-commercialization stage aimed at the creation of new employments in Ukraine. The most impressive projects will be presented later in this presentation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EPA has become STCU Partner recently, in 2003; the first project will be launched soon; it will be devoted to M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nagement and Destruction of 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bsolete Pesticides in Pilot Oblasts in Ukraine (Cherkassy and Lviv Oblast).</a:t>
            </a:r>
            <a:r>
              <a:rPr b="0" lang="uk-UA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(IPP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Multip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ur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pose coating machine that will be installed at the General Electric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Welding and Brazing Technology for Repair of Aircraft and Gas Turbine that will be implemented in Ukraine in cooperation with Pratt&amp;Whittney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New revol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tionary Europium Technology for S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nitizing Food and Medical supplies, which creates a cornerstone for future multimillion industry (Invitation to the Presentation/Workshop is attached)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3323D-4189-47EC-A58D-7B660A9C72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711360" y="744480"/>
            <a:ext cx="5376600" cy="37227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iana:  no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712800" y="744480"/>
            <a:ext cx="5375160" cy="372132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ong 9.7 million provided by the Non-governmental Partners up to date there is 1.6 million from Canada, 0.6 million from EU, and 7.6 million from the US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712800" y="744480"/>
            <a:ext cx="5376960" cy="372276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vervie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712800" y="744480"/>
            <a:ext cx="5376960" cy="372276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vervie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711360" y="744480"/>
            <a:ext cx="5376600" cy="372276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troduce ‘line’ activity, as refer to picture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volvement of three different areas:   Project Mgmt, Acct, and Adm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711360" y="744480"/>
            <a:ext cx="5376600" cy="372276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iority for STC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imilar, with fourth player:  Partnership Mg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712800" y="744480"/>
            <a:ext cx="5375160" cy="372132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rrently, STCU Governing Parties include 8 state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ada, EU, and the USA are the Funding Part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ve countries of the FSU are the Recipient Parti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nce 1997 STCU has l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au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ched a Partner Program providing governm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tal agencies and priv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, industrial companies r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istered at the territories of Funding Parties with a possibility of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cess to highly q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u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fied scientific community of the Recipient Countries and implement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on of R&amp;D projects using STCU s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vices and pr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l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s including project administr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on, m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itoring, and t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pr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leg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08478-DA01-442F-8EF7-31CC9434C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705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22280"/>
            <a:ext cx="8705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FD449-B11C-46C6-8C3A-8CD88F032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2483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17960" y="1599840"/>
            <a:ext cx="42483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22280"/>
            <a:ext cx="42483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17960" y="4022280"/>
            <a:ext cx="42483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A00C6-DC22-49DE-BAE3-C62B07076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802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00200" y="1599840"/>
            <a:ext cx="2802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43920" y="1599840"/>
            <a:ext cx="2802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22280"/>
            <a:ext cx="2802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00200" y="4022280"/>
            <a:ext cx="2802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43920" y="4022280"/>
            <a:ext cx="2802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11EC5-4A49-40A9-B2BF-C1A2CF74B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705880" cy="463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F525B-97DC-41F1-A359-0C2D9945E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70588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41A00-B1D3-4160-8D78-F1DF8605E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2483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17960" y="1599840"/>
            <a:ext cx="42483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84014-9413-4736-90D6-5ABECC938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02826-F67E-4B77-A9ED-2DAD7770F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04520" y="2743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75C20-4598-44D2-9D91-D3331ED10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2483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17960" y="1599840"/>
            <a:ext cx="42483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22280"/>
            <a:ext cx="42483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16A68-AEB4-4BDA-B196-F5A156A31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2483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17960" y="1599840"/>
            <a:ext cx="42483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17960" y="4022280"/>
            <a:ext cx="42483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A4B3F-3269-49BB-A198-9888A75C2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2483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17960" y="1599840"/>
            <a:ext cx="42483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22280"/>
            <a:ext cx="8705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ED611-A875-4957-A67E-C3993DFC4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70588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0360" y="6453000"/>
            <a:ext cx="259740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5E22A-BB38-4740-8459-4364F1B1264C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453000"/>
            <a:ext cx="313668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453000"/>
            <a:ext cx="206388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D2B24-4794-49F7-BCCD-1CA888CAED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200160" y="284040"/>
            <a:ext cx="769680" cy="1133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42680" y="22856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rant-Writing Workshop: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peting More Effectivel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485720" y="38862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engthening Your Ability to Compete for STCU Grants, Part 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920880" y="549360"/>
            <a:ext cx="3127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CIENCE &amp; TECHNOLOGY CENTER IN UKRA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258440" y="6464160"/>
            <a:ext cx="13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rch 200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TCU Project Activ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390600" y="1633680"/>
          <a:ext cx="9766080" cy="521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0600" y="1633680"/>
                    <a:ext cx="9766080" cy="521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" name=""/>
          <p:cNvSpPr/>
          <p:nvPr/>
        </p:nvSpPr>
        <p:spPr>
          <a:xfrm rot="10800000">
            <a:off x="272520" y="3087720"/>
            <a:ext cx="42372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unding, $US Mill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87960" y="1125360"/>
            <a:ext cx="6711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99"/>
                </a:solidFill>
                <a:latin typeface="Arial"/>
              </a:rPr>
              <a:t>Disbursement of funds for on-going project activities, i.e., not grants awarded for future activit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8048520" y="5084640"/>
            <a:ext cx="1219320" cy="719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7473960" y="5445000"/>
            <a:ext cx="5745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400880" y="2298600"/>
            <a:ext cx="504720" cy="1489320"/>
          </a:xfrm>
          <a:custGeom>
            <a:avLst/>
            <a:gdLst>
              <a:gd name="textAreaLeft" fmla="*/ 322560 w 504720"/>
              <a:gd name="textAreaRight" fmla="*/ 505080 w 504720"/>
              <a:gd name="textAreaTop" fmla="*/ 38520 h 1489320"/>
              <a:gd name="textAreaBottom" fmla="*/ 1450800 h 148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832880" y="2154240"/>
            <a:ext cx="1655640" cy="70956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761240" y="3019320"/>
            <a:ext cx="1800360" cy="770040"/>
          </a:xfrm>
          <a:prstGeom prst="hexagon">
            <a:avLst>
              <a:gd name="adj" fmla="val 58450"/>
              <a:gd name="vf" fmla="val 11547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834320" y="224784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n-Gov’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8175600" y="3138480"/>
            <a:ext cx="8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’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053920" y="5157720"/>
            <a:ext cx="114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u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AFEF9-C535-4108-9A0C-5451F2F9AD56}" type="slidenum">
              <a:t>1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EF799F-AB24-4FD2-9DA6-F72E1DE9502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overnmen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gram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Make Use of STC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9180360" cy="508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date, 17 Government Partners, inclu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URATOM Association, Gmb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x Planck Institute of Plasmaphys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.S. Department of Energy/Initiatives for Proliferation Prevention (IP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.S. Nation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s of Health/National Cancer Institu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AF European Office of Aerospace Research and Develop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.S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o-Chem Redirect Pro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.S. Department o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gricul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vironmental Protection Ag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616880" y="476280"/>
            <a:ext cx="1800000" cy="770040"/>
          </a:xfrm>
          <a:prstGeom prst="hexagon">
            <a:avLst>
              <a:gd name="adj" fmla="val 58439"/>
              <a:gd name="vf" fmla="val 11547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B25FE-3A25-456A-B674-A02E1D3F9D6A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8A4766-F7A6-4DEF-976B-007BFEBE57F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785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overnment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artner Projec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-5776920" y="2205000"/>
          <a:ext cx="20005560" cy="4707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5776920" y="2205000"/>
                    <a:ext cx="20005560" cy="470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8" name=""/>
          <p:cNvSpPr/>
          <p:nvPr/>
        </p:nvSpPr>
        <p:spPr>
          <a:xfrm>
            <a:off x="1352520" y="1628640"/>
            <a:ext cx="7196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:  81 Unique Projec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$16.5 Million an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€1.5 Mill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329600" y="404640"/>
            <a:ext cx="1800000" cy="770040"/>
          </a:xfrm>
          <a:prstGeom prst="hexagon">
            <a:avLst>
              <a:gd name="adj" fmla="val 58439"/>
              <a:gd name="vf" fmla="val 11547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722680" y="6467400"/>
            <a:ext cx="4442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Estimated exchange rate, averaged over time, 1 USD: 1 Eu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258920" y="2479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0E47A-2F7C-4BDD-83A0-DEC7AAFF29C4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3E6A64-8913-4CF9-A6E2-83CFF3EFC8B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on-Governmental Partners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Key to Self-Sustaina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70588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ate, over 90 Non-Government Partners, includ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+S Electron Technologies (California, US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M Corporation (Minnesota, US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Pont (Delaware, US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l Electric (New York, US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BM (New York, US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ECL Chalk River Laboratories (Ontario, Canad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ofina (Paris, Fran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chelin (Clermont-Ferrand, Fran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977240" y="476280"/>
            <a:ext cx="1655640" cy="70956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31FE0-3264-4C2B-AA13-4B07CDCB06E5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03D21E-8334-4A48-9D1E-72516DF6122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on-Government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Partner Projec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-1569960" y="2203560"/>
          <a:ext cx="12815640" cy="432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569960" y="2203560"/>
                    <a:ext cx="12815640" cy="432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8" name=""/>
          <p:cNvSpPr/>
          <p:nvPr/>
        </p:nvSpPr>
        <p:spPr>
          <a:xfrm>
            <a:off x="2333520" y="1628640"/>
            <a:ext cx="5211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:  76 Pro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$9.1 Million an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€0.5 Mill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761240" y="476280"/>
            <a:ext cx="1655640" cy="70956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067040" y="23954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741400" y="6467400"/>
            <a:ext cx="4442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Estimated exchange rate, averaged over time, 1 USD: 1 Eu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892F5-3A7B-43CE-AEB5-7B95F11130E0}" type="slidenum">
              <a:t>1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14BF35-CD27-4D36-9870-600B78B9479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pplication Processe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468360" y="1596960"/>
          <a:ext cx="8744040" cy="465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596960"/>
                    <a:ext cx="8744040" cy="465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5" name=""/>
          <p:cNvSpPr/>
          <p:nvPr/>
        </p:nvSpPr>
        <p:spPr>
          <a:xfrm>
            <a:off x="874800" y="1487520"/>
            <a:ext cx="3862440" cy="5254560"/>
          </a:xfrm>
          <a:prstGeom prst="rect">
            <a:avLst/>
          </a:prstGeom>
          <a:solidFill>
            <a:srgbClr val="ff0000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3800" y="1728720"/>
            <a:ext cx="3381120" cy="74628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198440" y="1744560"/>
            <a:ext cx="3230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Development of a proposal by the scientific tea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ON-LINE REGISTRATION SYSTE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1039680" y="2682720"/>
            <a:ext cx="3438360" cy="746280"/>
            <a:chOff x="1039680" y="2682720"/>
            <a:chExt cx="3438360" cy="746280"/>
          </a:xfrm>
        </p:grpSpPr>
        <p:sp>
          <p:nvSpPr>
            <p:cNvPr id="169" name=""/>
            <p:cNvSpPr/>
            <p:nvPr/>
          </p:nvSpPr>
          <p:spPr>
            <a:xfrm>
              <a:off x="1087920" y="2682720"/>
              <a:ext cx="3390120" cy="74628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039680" y="2694240"/>
              <a:ext cx="33663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Solicitation of support from scientific collaborators in territories of Financing Parti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1114560" y="4149720"/>
            <a:ext cx="3384360" cy="745920"/>
            <a:chOff x="1114560" y="4149720"/>
            <a:chExt cx="3384360" cy="745920"/>
          </a:xfrm>
        </p:grpSpPr>
        <p:sp>
          <p:nvSpPr>
            <p:cNvPr id="172" name=""/>
            <p:cNvSpPr/>
            <p:nvPr/>
          </p:nvSpPr>
          <p:spPr>
            <a:xfrm>
              <a:off x="1114560" y="4149720"/>
              <a:ext cx="3384360" cy="74592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198440" y="4149720"/>
              <a:ext cx="32540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view of the proposal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y scientific advisors hired by each Financing Part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1111320" y="5086440"/>
            <a:ext cx="3390480" cy="745920"/>
            <a:chOff x="1111320" y="5086440"/>
            <a:chExt cx="3390480" cy="745920"/>
          </a:xfrm>
        </p:grpSpPr>
        <p:sp>
          <p:nvSpPr>
            <p:cNvPr id="175" name=""/>
            <p:cNvSpPr/>
            <p:nvPr/>
          </p:nvSpPr>
          <p:spPr>
            <a:xfrm>
              <a:off x="1111320" y="5086440"/>
              <a:ext cx="3390480" cy="74592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583280" y="5097960"/>
              <a:ext cx="23173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STCU Governing Boar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approves project fund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(June and December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7" name=""/>
          <p:cNvSpPr/>
          <p:nvPr/>
        </p:nvSpPr>
        <p:spPr>
          <a:xfrm>
            <a:off x="1281600" y="6021360"/>
            <a:ext cx="3192120" cy="520200"/>
          </a:xfrm>
          <a:prstGeom prst="rect">
            <a:avLst/>
          </a:prstGeom>
          <a:solidFill>
            <a:srgbClr val="ffffff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cc"/>
                </a:solidFill>
                <a:latin typeface="Arial"/>
              </a:rPr>
              <a:t>Historically, only one in four proposa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3333cc"/>
                </a:solidFill>
                <a:latin typeface="Arial"/>
              </a:rPr>
              <a:t>eventually wins fun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1063800" y="3646440"/>
            <a:ext cx="3438000" cy="316080"/>
            <a:chOff x="1063800" y="3646440"/>
            <a:chExt cx="3438000" cy="316080"/>
          </a:xfrm>
        </p:grpSpPr>
        <p:sp>
          <p:nvSpPr>
            <p:cNvPr id="179" name=""/>
            <p:cNvSpPr/>
            <p:nvPr/>
          </p:nvSpPr>
          <p:spPr>
            <a:xfrm>
              <a:off x="1112040" y="3646440"/>
              <a:ext cx="3389760" cy="31608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063800" y="3651120"/>
              <a:ext cx="336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Concurrence from Host Governm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1" name=""/>
          <p:cNvSpPr/>
          <p:nvPr/>
        </p:nvSpPr>
        <p:spPr>
          <a:xfrm>
            <a:off x="5257800" y="1487520"/>
            <a:ext cx="3943440" cy="5254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009900"/>
              </a:gs>
              <a:gs pos="100000">
                <a:srgbClr val="3333cc"/>
              </a:gs>
            </a:gsLst>
            <a:lin ang="10800000"/>
          </a:gra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605560" y="1728720"/>
            <a:ext cx="3386160" cy="137952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653080" y="1747800"/>
            <a:ext cx="331776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Organisation from territory of one of the Financing Parties expresses interest in STCU program and applies to become a PARTNER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99"/>
                </a:solidFill>
                <a:uFillTx/>
                <a:latin typeface="Arial"/>
              </a:rPr>
              <a:t>PARTIES’ APPROVAL REQUIR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(30 day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5605560" y="3286080"/>
            <a:ext cx="3388680" cy="746280"/>
            <a:chOff x="5605560" y="3286080"/>
            <a:chExt cx="3388680" cy="746280"/>
          </a:xfrm>
        </p:grpSpPr>
        <p:sp>
          <p:nvSpPr>
            <p:cNvPr id="185" name=""/>
            <p:cNvSpPr/>
            <p:nvPr/>
          </p:nvSpPr>
          <p:spPr>
            <a:xfrm>
              <a:off x="5605560" y="3286080"/>
              <a:ext cx="3388680" cy="74628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006960" y="3297600"/>
              <a:ext cx="24620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Partner and scientific tea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agree on a projec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and develop propos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5619600" y="4699080"/>
            <a:ext cx="3391200" cy="74772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53080" y="4716360"/>
            <a:ext cx="3260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Review of the proposal by officials of each Financing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(45 day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5565600" y="4194000"/>
            <a:ext cx="3438360" cy="316080"/>
            <a:chOff x="5565600" y="4194000"/>
            <a:chExt cx="3438360" cy="316080"/>
          </a:xfrm>
        </p:grpSpPr>
        <p:sp>
          <p:nvSpPr>
            <p:cNvPr id="190" name=""/>
            <p:cNvSpPr/>
            <p:nvPr/>
          </p:nvSpPr>
          <p:spPr>
            <a:xfrm>
              <a:off x="5613840" y="4194000"/>
              <a:ext cx="3390120" cy="31608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565600" y="4198680"/>
              <a:ext cx="3366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Concurrence from Host Governm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2" name=""/>
          <p:cNvSpPr/>
          <p:nvPr/>
        </p:nvSpPr>
        <p:spPr>
          <a:xfrm>
            <a:off x="5653080" y="5589720"/>
            <a:ext cx="3390840" cy="74592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807160" y="5608800"/>
            <a:ext cx="3163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STCU Governing Boa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approves project fun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(out-of-cycl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639800" y="1027080"/>
            <a:ext cx="237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Regular Pro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033240" y="1027080"/>
            <a:ext cx="234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Partner Pro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E460E-016E-4383-A9B5-0A97AFE09E50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8AA54A-82CF-45DA-815E-25CDF85A45A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ttom-Lin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70588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ula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ss effort required: clearly defined form and application proces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eatest competition for funding:  many applicants meet selection criteri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vernmental Partn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re effort required, to identify program/s and fill out varied for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wer competitors: each program interests smaller group of applicants with focused research and development interes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-Governmental Partn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eatest effort required, to search for potential commercial spons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direct competitor for this source of fund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06174-479C-4243-816F-883808B10DEF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7503F2-5BEA-4ABC-88B1-65F0A77C80B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742680" y="22856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rant-Writing Workshop: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peting More Effectivel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1485720" y="38862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engthening Your Ability to Compete for STCU Grants, Part 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920880" y="549360"/>
            <a:ext cx="3127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CIENCE &amp; TECHNOLOGY CENTER IN UKRA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258440" y="6464160"/>
            <a:ext cx="13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rch 200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30200" y="1557360"/>
            <a:ext cx="8694720" cy="1512720"/>
          </a:xfrm>
          <a:custGeom>
            <a:avLst/>
            <a:gdLst>
              <a:gd name="textAreaLeft" fmla="*/ 1090800 w 8694720"/>
              <a:gd name="textAreaRight" fmla="*/ 7603920 w 8694720"/>
              <a:gd name="textAreaTop" fmla="*/ 189720 h 1512720"/>
              <a:gd name="textAreaBottom" fmla="*/ 1323000 h 151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9872" y="21600"/>
                </a:lnTo>
                <a:lnTo>
                  <a:pt x="1728" y="21600"/>
                </a:lnTo>
                <a:close/>
              </a:path>
            </a:pathLst>
          </a:cu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mproving Grantsmansh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 I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Grantsmanship” defined; how to win new financ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 II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nt-writing: content, form and sty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iting a “typical” proposal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208160" y="3141720"/>
            <a:ext cx="7157880" cy="1652400"/>
          </a:xfrm>
          <a:custGeom>
            <a:avLst/>
            <a:gdLst>
              <a:gd name="textAreaLeft" fmla="*/ 995760 w 7157880"/>
              <a:gd name="textAreaRight" fmla="*/ 6162120 w 7157880"/>
              <a:gd name="textAreaTop" fmla="*/ 229680 h 1652400"/>
              <a:gd name="textAreaBottom" fmla="*/ 1422720 h 1652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9341" y="21600"/>
                </a:lnTo>
                <a:lnTo>
                  <a:pt x="2259" y="21600"/>
                </a:lnTo>
                <a:close/>
              </a:path>
            </a:pathLst>
          </a:custGeom>
          <a:solidFill>
            <a:srgbClr val="99ffcc"/>
          </a:solidFill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rengthening Ability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ete for STCU Gra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 I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roduction to STC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Part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II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: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How STCU 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432160" y="5878440"/>
            <a:ext cx="4752720" cy="790560"/>
          </a:xfrm>
          <a:custGeom>
            <a:avLst/>
            <a:gdLst>
              <a:gd name="textAreaLeft" fmla="*/ 598320 w 4752720"/>
              <a:gd name="textAreaRight" fmla="*/ 4154400 w 4752720"/>
              <a:gd name="textAreaTop" fmla="*/ 99360 h 790560"/>
              <a:gd name="textAreaBottom" fmla="*/ 691200 h 790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9854" y="21600"/>
                </a:lnTo>
                <a:lnTo>
                  <a:pt x="1746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pplying for STCU Regular Project Funding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000160" y="4898880"/>
            <a:ext cx="5616720" cy="892440"/>
          </a:xfrm>
          <a:custGeom>
            <a:avLst/>
            <a:gdLst>
              <a:gd name="textAreaLeft" fmla="*/ 675000 w 5616720"/>
              <a:gd name="textAreaRight" fmla="*/ 4941720 w 5616720"/>
              <a:gd name="textAreaTop" fmla="*/ 107280 h 892440"/>
              <a:gd name="textAreaBottom" fmla="*/ 785160 h 892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077" y="21600"/>
                </a:lnTo>
                <a:lnTo>
                  <a:pt x="1523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urrent US Review Perspe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65400" y="4522680"/>
            <a:ext cx="1296720" cy="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5C1C0-C103-43EF-A1A8-11854F0DF2B8}" type="slidenum">
              <a:t>1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D402AD-0346-401F-8243-DAEBEE1C600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STCU Do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70588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CU channels assistance to scient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ect, tax-free payments (grants) to researchers’ personal bank accou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stoms clearance assist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curement of equipment and materials free of duties and tax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aching in grant-writing and project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CU helps donor countries achieve their policy objec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 for peaceful, civilian researc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st government concurrence and security revie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fessional project management, including technical and financial monitor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nowledge of Recipient Parties’ R&amp;D communities and capabilit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7F333-53A0-4D18-91BA-72D3D5FF5A31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EA424C-7E78-4EE5-B4DB-4CFB20BC637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30200" y="1557360"/>
            <a:ext cx="8694720" cy="1512720"/>
          </a:xfrm>
          <a:custGeom>
            <a:avLst/>
            <a:gdLst>
              <a:gd name="textAreaLeft" fmla="*/ 1090800 w 8694720"/>
              <a:gd name="textAreaRight" fmla="*/ 7603920 w 8694720"/>
              <a:gd name="textAreaTop" fmla="*/ 189720 h 1512720"/>
              <a:gd name="textAreaBottom" fmla="*/ 1323000 h 151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9872" y="21600"/>
                </a:lnTo>
                <a:lnTo>
                  <a:pt x="1728" y="21600"/>
                </a:lnTo>
                <a:close/>
              </a:path>
            </a:pathLst>
          </a:cu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mproving Grantsmansh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 I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Grantsmanship” defined; how to win new financ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 II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nt-writing: content, form and sty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iting a “typical” proposal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208160" y="3141720"/>
            <a:ext cx="7157880" cy="1652400"/>
          </a:xfrm>
          <a:custGeom>
            <a:avLst/>
            <a:gdLst>
              <a:gd name="textAreaLeft" fmla="*/ 995760 w 7157880"/>
              <a:gd name="textAreaRight" fmla="*/ 6162120 w 7157880"/>
              <a:gd name="textAreaTop" fmla="*/ 229680 h 1652400"/>
              <a:gd name="textAreaBottom" fmla="*/ 1422720 h 1652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9341" y="21600"/>
                </a:lnTo>
                <a:lnTo>
                  <a:pt x="2259" y="21600"/>
                </a:lnTo>
                <a:close/>
              </a:path>
            </a:pathLst>
          </a:custGeom>
          <a:solidFill>
            <a:srgbClr val="99ffcc"/>
          </a:solidFill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rengthening Ability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ete for STCU Gra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Part I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: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Introduction to STC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STCU 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432160" y="5878440"/>
            <a:ext cx="4752720" cy="790560"/>
          </a:xfrm>
          <a:custGeom>
            <a:avLst/>
            <a:gdLst>
              <a:gd name="textAreaLeft" fmla="*/ 598320 w 4752720"/>
              <a:gd name="textAreaRight" fmla="*/ 4154400 w 4752720"/>
              <a:gd name="textAreaTop" fmla="*/ 99360 h 790560"/>
              <a:gd name="textAreaBottom" fmla="*/ 691200 h 790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9854" y="21600"/>
                </a:lnTo>
                <a:lnTo>
                  <a:pt x="1746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pplying for STCU Regular Project Funding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000160" y="4898880"/>
            <a:ext cx="5616720" cy="892440"/>
          </a:xfrm>
          <a:custGeom>
            <a:avLst/>
            <a:gdLst>
              <a:gd name="textAreaLeft" fmla="*/ 675000 w 5616720"/>
              <a:gd name="textAreaRight" fmla="*/ 4941720 w 5616720"/>
              <a:gd name="textAreaTop" fmla="*/ 107280 h 892440"/>
              <a:gd name="textAreaBottom" fmla="*/ 785160 h 892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077" y="21600"/>
                </a:lnTo>
                <a:lnTo>
                  <a:pt x="1523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urrent US Review Perspe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208160" y="4178160"/>
            <a:ext cx="1297080" cy="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7291E-51B0-49CF-9999-1824F493CD6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078F9F-C91C-4501-848A-09D5FE65F0A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STCU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70588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CU must assure donors that monies are well-spent, towards aim of non-proliferation of WMD scientific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kill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 project can be audited at donor requ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grants must be traceable to real scientists, doing real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STCU, salaries are of more importance than equip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proposed purchases must clearly support ability of people to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9E7DF-8184-4DF1-AF44-C4936CB4BF04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DA224B-0548-4C62-97EB-33148B4B469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CU Project Management Approac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70588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CU designates staff to monitor each regular and partner projec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CU Project Coordinat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CU Project Account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CU Procurement Offic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CU staff visit each project on a regular, scheduled ba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in six months of operative commencement d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 year thereaf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frequently if problems encounte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EE4AA-77B0-4993-ACA4-70E162DC5C54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C5B256-E412-4B78-A7D3-40BAB1E7BC3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ular Project Lifecy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00160" y="3760920"/>
            <a:ext cx="9432720" cy="175572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00160" y="2008080"/>
            <a:ext cx="9432720" cy="1755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389640" y="3608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400800" y="3608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6354720" y="3594240"/>
            <a:ext cx="366480" cy="428760"/>
            <a:chOff x="6354720" y="3594240"/>
            <a:chExt cx="366480" cy="428760"/>
          </a:xfrm>
        </p:grpSpPr>
        <p:sp>
          <p:nvSpPr>
            <p:cNvPr id="220" name=""/>
            <p:cNvSpPr/>
            <p:nvPr/>
          </p:nvSpPr>
          <p:spPr>
            <a:xfrm>
              <a:off x="6676920" y="359424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354720" y="3746520"/>
              <a:ext cx="36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Q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5715000" y="3433680"/>
            <a:ext cx="0" cy="3049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895480" y="3459240"/>
            <a:ext cx="0" cy="3045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928800" y="3413160"/>
            <a:ext cx="0" cy="3049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6642000" y="3592440"/>
            <a:ext cx="366480" cy="428760"/>
            <a:chOff x="6642000" y="3592440"/>
            <a:chExt cx="366480" cy="428760"/>
          </a:xfrm>
        </p:grpSpPr>
        <p:sp>
          <p:nvSpPr>
            <p:cNvPr id="226" name=""/>
            <p:cNvSpPr/>
            <p:nvPr/>
          </p:nvSpPr>
          <p:spPr>
            <a:xfrm>
              <a:off x="6964200" y="359244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642000" y="3744720"/>
              <a:ext cx="36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Q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6947640" y="3591000"/>
            <a:ext cx="366480" cy="428760"/>
            <a:chOff x="6947640" y="3591000"/>
            <a:chExt cx="366480" cy="428760"/>
          </a:xfrm>
        </p:grpSpPr>
        <p:sp>
          <p:nvSpPr>
            <p:cNvPr id="229" name=""/>
            <p:cNvSpPr/>
            <p:nvPr/>
          </p:nvSpPr>
          <p:spPr>
            <a:xfrm>
              <a:off x="7270200" y="3591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947640" y="3743280"/>
              <a:ext cx="36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Q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7251480" y="3592440"/>
            <a:ext cx="366480" cy="428760"/>
            <a:chOff x="7251480" y="3592440"/>
            <a:chExt cx="366480" cy="428760"/>
          </a:xfrm>
        </p:grpSpPr>
        <p:sp>
          <p:nvSpPr>
            <p:cNvPr id="232" name=""/>
            <p:cNvSpPr/>
            <p:nvPr/>
          </p:nvSpPr>
          <p:spPr>
            <a:xfrm>
              <a:off x="7573680" y="359244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251480" y="3744720"/>
              <a:ext cx="36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Q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"/>
          <p:cNvGrpSpPr/>
          <p:nvPr/>
        </p:nvGrpSpPr>
        <p:grpSpPr>
          <a:xfrm>
            <a:off x="7556400" y="3591000"/>
            <a:ext cx="366480" cy="428760"/>
            <a:chOff x="7556400" y="3591000"/>
            <a:chExt cx="366480" cy="428760"/>
          </a:xfrm>
        </p:grpSpPr>
        <p:sp>
          <p:nvSpPr>
            <p:cNvPr id="235" name=""/>
            <p:cNvSpPr/>
            <p:nvPr/>
          </p:nvSpPr>
          <p:spPr>
            <a:xfrm>
              <a:off x="7878600" y="3591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556400" y="3743280"/>
              <a:ext cx="36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Q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7861320" y="3592440"/>
            <a:ext cx="366480" cy="428760"/>
            <a:chOff x="7861320" y="3592440"/>
            <a:chExt cx="366480" cy="428760"/>
          </a:xfrm>
        </p:grpSpPr>
        <p:sp>
          <p:nvSpPr>
            <p:cNvPr id="238" name=""/>
            <p:cNvSpPr/>
            <p:nvPr/>
          </p:nvSpPr>
          <p:spPr>
            <a:xfrm>
              <a:off x="8183520" y="359244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861320" y="3744720"/>
              <a:ext cx="36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Q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8165880" y="3594240"/>
            <a:ext cx="366480" cy="428760"/>
            <a:chOff x="8165880" y="3594240"/>
            <a:chExt cx="366480" cy="428760"/>
          </a:xfrm>
        </p:grpSpPr>
        <p:sp>
          <p:nvSpPr>
            <p:cNvPr id="241" name=""/>
            <p:cNvSpPr/>
            <p:nvPr/>
          </p:nvSpPr>
          <p:spPr>
            <a:xfrm>
              <a:off x="8488080" y="359424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165880" y="3746520"/>
              <a:ext cx="36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Q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3" name=""/>
          <p:cNvGrpSpPr/>
          <p:nvPr/>
        </p:nvGrpSpPr>
        <p:grpSpPr>
          <a:xfrm>
            <a:off x="8470800" y="3591000"/>
            <a:ext cx="366480" cy="428760"/>
            <a:chOff x="8470800" y="3591000"/>
            <a:chExt cx="366480" cy="428760"/>
          </a:xfrm>
        </p:grpSpPr>
        <p:sp>
          <p:nvSpPr>
            <p:cNvPr id="244" name=""/>
            <p:cNvSpPr/>
            <p:nvPr/>
          </p:nvSpPr>
          <p:spPr>
            <a:xfrm>
              <a:off x="8793000" y="3591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8470800" y="3743280"/>
              <a:ext cx="36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Q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6" name=""/>
          <p:cNvSpPr/>
          <p:nvPr/>
        </p:nvSpPr>
        <p:spPr>
          <a:xfrm>
            <a:off x="2209680" y="2720880"/>
            <a:ext cx="1524240" cy="68904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pos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Full-For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962520" y="2720880"/>
            <a:ext cx="2363760" cy="68904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ject Agreement &amp; Work Pl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71680" y="2720880"/>
            <a:ext cx="1562040" cy="68904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(Short-For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477120" y="2724120"/>
            <a:ext cx="2895480" cy="68904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uarterly, Technical, Annual &amp; Final Rep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 flipV="1">
            <a:off x="7783560" y="3414600"/>
            <a:ext cx="1009440" cy="1764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7316640" y="3419640"/>
            <a:ext cx="387360" cy="1713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 flipV="1">
            <a:off x="7724520" y="3409560"/>
            <a:ext cx="439560" cy="1983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6723000" y="3409560"/>
            <a:ext cx="1001880" cy="1810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400800" y="3760920"/>
            <a:ext cx="27432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828800" y="371808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124080" y="3635280"/>
            <a:ext cx="0" cy="128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952880" y="371808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914040" y="3760920"/>
            <a:ext cx="547524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419720" y="3946680"/>
            <a:ext cx="1066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ard Mee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952720" y="3946680"/>
            <a:ext cx="139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nsmittal Covershe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85800" y="3946680"/>
            <a:ext cx="1981080" cy="5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D approval Regist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705720" y="3946680"/>
            <a:ext cx="2438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Visit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direction Let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3" name=""/>
          <p:cNvGrpSpPr/>
          <p:nvPr/>
        </p:nvGrpSpPr>
        <p:grpSpPr>
          <a:xfrm>
            <a:off x="2859120" y="4626000"/>
            <a:ext cx="6055920" cy="380880"/>
            <a:chOff x="2859120" y="4626000"/>
            <a:chExt cx="6055920" cy="380880"/>
          </a:xfrm>
        </p:grpSpPr>
        <p:sp>
          <p:nvSpPr>
            <p:cNvPr id="264" name=""/>
            <p:cNvSpPr/>
            <p:nvPr/>
          </p:nvSpPr>
          <p:spPr>
            <a:xfrm>
              <a:off x="2859120" y="4626000"/>
              <a:ext cx="15613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Project Coordinators, DED, 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182200" y="4626000"/>
              <a:ext cx="17632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Project Coordinators Project  Accountants, Procurement,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DED, 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7152120" y="4626000"/>
              <a:ext cx="17629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Project Coordinators Project  Accountants,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Procurement,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DED, 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7" name=""/>
          <p:cNvSpPr/>
          <p:nvPr/>
        </p:nvSpPr>
        <p:spPr>
          <a:xfrm flipV="1">
            <a:off x="5715000" y="3746160"/>
            <a:ext cx="0" cy="90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666880" y="3459240"/>
            <a:ext cx="15624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Gov’t. Concur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657600" y="3787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99440" y="2035080"/>
            <a:ext cx="135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Scienti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01600" y="5059440"/>
            <a:ext cx="162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TCU Sta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0BF9C-F1FA-485A-8500-45C84D8D3AC6}" type="slidenum">
              <a:t>2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7DB49B-5972-4808-B820-9A5067AC3F1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200160" y="3381480"/>
            <a:ext cx="9432720" cy="242388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00160" y="1628640"/>
            <a:ext cx="9432720" cy="1756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99440" y="1628640"/>
            <a:ext cx="135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Scienti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01600" y="5276880"/>
            <a:ext cx="162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TCU Sta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tner Project Lifecy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5181480" y="2924280"/>
            <a:ext cx="0" cy="5810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990720" y="2898720"/>
            <a:ext cx="0" cy="5065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28600" y="2209680"/>
            <a:ext cx="1523880" cy="68904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ve-Page Draf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267080" y="2209680"/>
            <a:ext cx="1676520" cy="68904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nership Contr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124080" y="3276720"/>
            <a:ext cx="0" cy="128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191120" y="3238560"/>
            <a:ext cx="0" cy="571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 flipH="1">
            <a:off x="456840" y="3402000"/>
            <a:ext cx="5522760" cy="324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flipV="1">
            <a:off x="5181480" y="3401640"/>
            <a:ext cx="0" cy="17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363760" y="2971800"/>
            <a:ext cx="15606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Gov’t. Concur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057400" y="3232080"/>
            <a:ext cx="0" cy="57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905120" y="2209680"/>
            <a:ext cx="1523880" cy="68904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ve-Page Propos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438280" y="2898720"/>
            <a:ext cx="0" cy="4478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267080" y="5105520"/>
            <a:ext cx="17640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oject  Accountant Procurem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DED, 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rot="16200000">
            <a:off x="3602160" y="3050640"/>
            <a:ext cx="75960" cy="984600"/>
          </a:xfrm>
          <a:custGeom>
            <a:avLst/>
            <a:gdLst>
              <a:gd name="textAreaLeft" fmla="*/ 48600 w 75960"/>
              <a:gd name="textAreaRight" fmla="*/ 76320 w 75960"/>
              <a:gd name="textAreaTop" fmla="*/ 25560 h 984600"/>
              <a:gd name="textAreaBottom" fmla="*/ 959040 h 984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921040" y="3543480"/>
            <a:ext cx="1560600" cy="26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45 day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979960" y="3249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991120" y="3249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945040" y="3235320"/>
            <a:ext cx="366480" cy="428760"/>
            <a:chOff x="5945040" y="3235320"/>
            <a:chExt cx="366480" cy="428760"/>
          </a:xfrm>
        </p:grpSpPr>
        <p:sp>
          <p:nvSpPr>
            <p:cNvPr id="295" name=""/>
            <p:cNvSpPr/>
            <p:nvPr/>
          </p:nvSpPr>
          <p:spPr>
            <a:xfrm>
              <a:off x="6267240" y="323532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945040" y="3387600"/>
              <a:ext cx="36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Q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7" name=""/>
          <p:cNvGrpSpPr/>
          <p:nvPr/>
        </p:nvGrpSpPr>
        <p:grpSpPr>
          <a:xfrm>
            <a:off x="6232320" y="3233880"/>
            <a:ext cx="366480" cy="428760"/>
            <a:chOff x="6232320" y="3233880"/>
            <a:chExt cx="366480" cy="428760"/>
          </a:xfrm>
        </p:grpSpPr>
        <p:sp>
          <p:nvSpPr>
            <p:cNvPr id="298" name=""/>
            <p:cNvSpPr/>
            <p:nvPr/>
          </p:nvSpPr>
          <p:spPr>
            <a:xfrm>
              <a:off x="6554520" y="32338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232320" y="3386160"/>
              <a:ext cx="36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Q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6537240" y="3232080"/>
            <a:ext cx="366480" cy="428760"/>
            <a:chOff x="6537240" y="3232080"/>
            <a:chExt cx="366480" cy="428760"/>
          </a:xfrm>
        </p:grpSpPr>
        <p:sp>
          <p:nvSpPr>
            <p:cNvPr id="301" name=""/>
            <p:cNvSpPr/>
            <p:nvPr/>
          </p:nvSpPr>
          <p:spPr>
            <a:xfrm>
              <a:off x="6859440" y="3232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537240" y="3384360"/>
              <a:ext cx="36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Q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6842880" y="3233880"/>
            <a:ext cx="366480" cy="428760"/>
            <a:chOff x="6842880" y="3233880"/>
            <a:chExt cx="366480" cy="428760"/>
          </a:xfrm>
        </p:grpSpPr>
        <p:sp>
          <p:nvSpPr>
            <p:cNvPr id="304" name=""/>
            <p:cNvSpPr/>
            <p:nvPr/>
          </p:nvSpPr>
          <p:spPr>
            <a:xfrm>
              <a:off x="7164360" y="32338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842880" y="3386160"/>
              <a:ext cx="36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Q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7146720" y="3232080"/>
            <a:ext cx="366480" cy="428760"/>
            <a:chOff x="7146720" y="3232080"/>
            <a:chExt cx="366480" cy="428760"/>
          </a:xfrm>
        </p:grpSpPr>
        <p:sp>
          <p:nvSpPr>
            <p:cNvPr id="307" name=""/>
            <p:cNvSpPr/>
            <p:nvPr/>
          </p:nvSpPr>
          <p:spPr>
            <a:xfrm>
              <a:off x="7468920" y="3232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146720" y="3384360"/>
              <a:ext cx="36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Q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9" name=""/>
          <p:cNvGrpSpPr/>
          <p:nvPr/>
        </p:nvGrpSpPr>
        <p:grpSpPr>
          <a:xfrm>
            <a:off x="7451640" y="3233880"/>
            <a:ext cx="366480" cy="428760"/>
            <a:chOff x="7451640" y="3233880"/>
            <a:chExt cx="366480" cy="428760"/>
          </a:xfrm>
        </p:grpSpPr>
        <p:sp>
          <p:nvSpPr>
            <p:cNvPr id="310" name=""/>
            <p:cNvSpPr/>
            <p:nvPr/>
          </p:nvSpPr>
          <p:spPr>
            <a:xfrm>
              <a:off x="7773840" y="32338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7451640" y="3386160"/>
              <a:ext cx="36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Q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2" name=""/>
          <p:cNvGrpSpPr/>
          <p:nvPr/>
        </p:nvGrpSpPr>
        <p:grpSpPr>
          <a:xfrm>
            <a:off x="7756200" y="3235320"/>
            <a:ext cx="366480" cy="428760"/>
            <a:chOff x="7756200" y="3235320"/>
            <a:chExt cx="366480" cy="428760"/>
          </a:xfrm>
        </p:grpSpPr>
        <p:sp>
          <p:nvSpPr>
            <p:cNvPr id="313" name=""/>
            <p:cNvSpPr/>
            <p:nvPr/>
          </p:nvSpPr>
          <p:spPr>
            <a:xfrm>
              <a:off x="8078400" y="323532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7756200" y="3387600"/>
              <a:ext cx="36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Q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8383680" y="3105000"/>
            <a:ext cx="0" cy="2000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8062200" y="3384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6143760" y="2209680"/>
            <a:ext cx="2819160" cy="68904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ical Delivera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uarterly, Final Rep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H="1" flipV="1">
            <a:off x="7316640" y="2898720"/>
            <a:ext cx="1067040" cy="3333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6905520" y="2898720"/>
            <a:ext cx="411120" cy="3333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flipH="1" flipV="1">
            <a:off x="7316280" y="2898360"/>
            <a:ext cx="438120" cy="351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 flipV="1">
            <a:off x="6313320" y="2898720"/>
            <a:ext cx="1003320" cy="3333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991120" y="3402000"/>
            <a:ext cx="27432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066680" y="3728880"/>
            <a:ext cx="19814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14680" y="3852720"/>
            <a:ext cx="143820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Funding Parties’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Right of Refus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943600" y="3718080"/>
            <a:ext cx="2438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Visit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tters of Redir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742080" y="5105520"/>
            <a:ext cx="17636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oject  Account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oc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DED, 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8991720" y="2286000"/>
            <a:ext cx="8571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artn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8772480" y="2433600"/>
            <a:ext cx="362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8915400" y="2590920"/>
            <a:ext cx="8571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STC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8834400" y="2752560"/>
            <a:ext cx="290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8834400" y="2461680"/>
            <a:ext cx="328680" cy="27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57200" y="4749840"/>
            <a:ext cx="4724280" cy="0"/>
          </a:xfrm>
          <a:prstGeom prst="line">
            <a:avLst/>
          </a:prstGeom>
          <a:ln w="190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181480" y="4749840"/>
            <a:ext cx="4591080" cy="0"/>
          </a:xfrm>
          <a:prstGeom prst="line">
            <a:avLst/>
          </a:prstGeom>
          <a:ln w="190440">
            <a:solidFill>
              <a:srgbClr val="b2b2b2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71680" y="4597560"/>
            <a:ext cx="23493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artnership 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990720" y="342864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191120" y="4938840"/>
            <a:ext cx="979200" cy="0"/>
          </a:xfrm>
          <a:prstGeom prst="line">
            <a:avLst/>
          </a:prstGeom>
          <a:ln w="19044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195880" y="4938840"/>
            <a:ext cx="3187800" cy="0"/>
          </a:xfrm>
          <a:prstGeom prst="line">
            <a:avLst/>
          </a:prstGeom>
          <a:ln w="190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143680" y="4800600"/>
            <a:ext cx="21729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oject Coordin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191120" y="4419720"/>
            <a:ext cx="0" cy="635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990720" y="4944960"/>
            <a:ext cx="3200400" cy="0"/>
          </a:xfrm>
          <a:prstGeom prst="line">
            <a:avLst/>
          </a:prstGeom>
          <a:ln w="190440">
            <a:solidFill>
              <a:srgbClr val="eaeaea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B0EF8-B189-481F-8035-8C624574B1CA}" type="slidenum">
              <a:t>2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1BD395-8E73-43CC-BB4F-600D9DBD496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STCU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70588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CU seeks to help integrate former weapons scientists into the broader international scientific commun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ientists *must* invite Western colleagues to take an interest in their project’s progres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ing a “Collaborator” is *required* for all regular project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vel to conferences &amp; to meet Western colleagues is encourag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DD00D-64B7-4D51-A63B-7C439180ECD0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17F3AF-DDC9-4BC2-94CD-2903C439391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“Collaborator” Mea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70588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ientific or technical expert from the territory of the Financing Party who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ticipates as an un-paid advisor in a regular STCU pro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edges, in writing, to assist STCU grant recipient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ree of involvement may vary; minimum expect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view the project work plan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ess the technical merits and feasibility of that plan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are that evaluation with the scientific team and financing Part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unicate regularly with the project team for lifetime of projec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itutional affiliation may v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rporate or private-sector may be more useful to scientist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ademic or government lab affiliation, so far, more typic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AD27F-9CFF-47EA-8095-1FD308780400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35A0B3-F9EA-4046-8677-29E2F31E5E3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Collaborators do (1)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70588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000000"/>
                </a:solidFill>
                <a:latin typeface="Arial"/>
              </a:rPr>
              <a:t>Prior to funding deci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000000"/>
                </a:solidFill>
                <a:latin typeface="Arial"/>
              </a:rPr>
              <a:t>Provide recommendations during the development of the draft project proposal and work pla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000" spc="-1" strike="noStrike">
                <a:solidFill>
                  <a:srgbClr val="3333cc"/>
                </a:solidFill>
                <a:latin typeface="Arial"/>
              </a:rPr>
              <a:t>Review and assess work plan subsequent to HGC</a:t>
            </a:r>
            <a:r>
              <a:rPr b="0" lang="en" sz="2000" spc="-1" strike="noStrike">
                <a:solidFill>
                  <a:srgbClr val="000000"/>
                </a:solidFill>
                <a:latin typeface="Arial"/>
              </a:rPr>
              <a:t>.   Consid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800" spc="-1" strike="noStrike">
                <a:solidFill>
                  <a:srgbClr val="000000"/>
                </a:solidFill>
                <a:latin typeface="Arial"/>
              </a:rPr>
              <a:t>Quality of science proposed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800" spc="-1" strike="noStrike">
                <a:solidFill>
                  <a:srgbClr val="000000"/>
                </a:solidFill>
                <a:latin typeface="Arial"/>
              </a:rPr>
              <a:t>Feasibility of approach and time line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800" spc="-1" strike="noStrike">
                <a:solidFill>
                  <a:srgbClr val="000000"/>
                </a:solidFill>
                <a:latin typeface="Arial"/>
              </a:rPr>
              <a:t>Adequacy of equipment/materials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000000"/>
                </a:solidFill>
                <a:latin typeface="Arial"/>
              </a:rPr>
              <a:t>During consideration of the project proposal, </a:t>
            </a:r>
            <a:r>
              <a:rPr b="1" lang="en" sz="2000" spc="-1" strike="noStrike">
                <a:solidFill>
                  <a:srgbClr val="3333cc"/>
                </a:solidFill>
                <a:latin typeface="Arial"/>
              </a:rPr>
              <a:t>communicate to the project team and to the financing Parties the results of this assessment</a:t>
            </a:r>
            <a:r>
              <a:rPr b="0" lang="en" sz="2000" spc="-1" strike="noStrike">
                <a:solidFill>
                  <a:srgbClr val="000000"/>
                </a:solidFill>
                <a:latin typeface="Arial"/>
              </a:rPr>
              <a:t>, expressed a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800" spc="-1" strike="noStrike">
                <a:solidFill>
                  <a:srgbClr val="000000"/>
                </a:solidFill>
                <a:latin typeface="Arial"/>
              </a:rPr>
              <a:t>Approval</a:t>
            </a:r>
            <a:r>
              <a:rPr b="0" lang="en" sz="1800" spc="-1" strike="noStrike">
                <a:solidFill>
                  <a:srgbClr val="000000"/>
                </a:solidFill>
                <a:latin typeface="Arial"/>
              </a:rPr>
              <a:t> of the work plan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800" spc="-1" strike="noStrike">
                <a:solidFill>
                  <a:srgbClr val="000000"/>
                </a:solidFill>
                <a:latin typeface="Arial"/>
              </a:rPr>
              <a:t>Disapproval</a:t>
            </a:r>
            <a:r>
              <a:rPr b="0" lang="en" sz="1800" spc="-1" strike="noStrike">
                <a:solidFill>
                  <a:srgbClr val="000000"/>
                </a:solidFill>
                <a:latin typeface="Arial"/>
              </a:rPr>
              <a:t> (along with reasons),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800" spc="-1" strike="noStrike">
                <a:solidFill>
                  <a:srgbClr val="000000"/>
                </a:solidFill>
                <a:latin typeface="Arial"/>
              </a:rPr>
              <a:t>Limited approval</a:t>
            </a:r>
            <a:r>
              <a:rPr b="0" lang="en" sz="1800" spc="-1" strike="noStrike">
                <a:solidFill>
                  <a:srgbClr val="000000"/>
                </a:solidFill>
                <a:latin typeface="Arial"/>
              </a:rPr>
              <a:t> (along with a description of specific concern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3368880" y="6375240"/>
            <a:ext cx="312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minimum expectations in b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96826-F2CF-4A22-AD7C-17D7E1AB4D5A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954892-8186-45C9-85C6-140505E3A0C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Collaborators do (2)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70588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Project funde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Communicate regularly by e-mail with CIS institu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Review all quarterly project reports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lp project team adjust technical and commercial language and terminology to an accepted level for a North American or European reader/review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change technical information or assistance, including mutual review of technical repor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Provide guidance or recommendation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s appropriate, to enable attainment of project goals as set out in the work pla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are awareness of developments in applied science and technology that relate to proje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3368880" y="6375240"/>
            <a:ext cx="312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minimum expectations in b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087C8-50EF-49CC-BC0F-1F2E53CA13AA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932679-D18A-4E5A-984E-15CC4579E32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Collaborators do (3)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70588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000000"/>
                </a:solidFill>
                <a:latin typeface="Arial"/>
              </a:rPr>
              <a:t>As Project progres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000000"/>
                </a:solidFill>
                <a:latin typeface="Arial"/>
              </a:rPr>
              <a:t>Recruit other foreign collaborators to assist tea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000000"/>
                </a:solidFill>
                <a:latin typeface="Arial"/>
              </a:rPr>
              <a:t>Communicate results of related on-going studies in West, particularly at collaborator’s laborato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000000"/>
                </a:solidFill>
                <a:latin typeface="Arial"/>
              </a:rPr>
              <a:t>Share scarce materials, samples, and/or resour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000000"/>
                </a:solidFill>
                <a:latin typeface="Arial"/>
              </a:rPr>
              <a:t>Help project team select cost-advantageous research tools, instrumentation, and necessary chemica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000000"/>
                </a:solidFill>
                <a:latin typeface="Arial"/>
              </a:rPr>
              <a:t>Conduct joint or parallel investig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000000"/>
                </a:solidFill>
                <a:latin typeface="Arial"/>
              </a:rPr>
              <a:t>Assist with interpretation of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000000"/>
                </a:solidFill>
                <a:latin typeface="Arial"/>
              </a:rPr>
              <a:t>Verify results using independent methods and/or equip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368880" y="6375240"/>
            <a:ext cx="312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minimum expectations in b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23403-25E3-4433-B82A-ABD3B3C10B63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8B1236-479C-4CF7-B8D0-A60ACE6BF5A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Collaborators do (4)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70588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000000"/>
                </a:solidFill>
                <a:latin typeface="Arial"/>
              </a:rPr>
              <a:t>As Project progres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000000"/>
                </a:solidFill>
                <a:latin typeface="Arial"/>
              </a:rPr>
              <a:t>Conduct joint seminars, workshops, and consul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000000"/>
                </a:solidFill>
                <a:latin typeface="Arial"/>
              </a:rPr>
              <a:t>Host scientists from project team and/or allow use of facilities at collaborator’s l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000000"/>
                </a:solidFill>
                <a:latin typeface="Arial"/>
              </a:rPr>
              <a:t>Visit STCU scientists’ project sit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000000"/>
                </a:solidFill>
                <a:latin typeface="Arial"/>
              </a:rPr>
              <a:t>(recommended: at least once, but not more than three times over lifetime of STCU project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000000"/>
                </a:solidFill>
                <a:latin typeface="Arial"/>
              </a:rPr>
              <a:t>Review and edit draft final report, to ensure it clearly reflects results of the research conduct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000000"/>
                </a:solidFill>
                <a:latin typeface="Arial"/>
              </a:rPr>
              <a:t>Assist with publication and/or dissemination of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000000"/>
                </a:solidFill>
                <a:latin typeface="Arial"/>
              </a:rPr>
              <a:t>Help with commercialization of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368880" y="6375240"/>
            <a:ext cx="312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minimum expectations in b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DE40B-210B-46E0-AED6-24A3E3D6FB58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32A606-2C9A-43B9-B49D-D03AEC29061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roduction to STC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70588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CU Miss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om do we help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where does the help com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es of Support We Prov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 we help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are regular projec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are partner projec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else does the STCU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 I pick a path forwar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BBD55-E41B-4203-B7D5-7891C0ADE2E1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F68238-D8AC-491E-8CBC-56C55A4F279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nding a Collabora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70588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methods have worked for other STCU scienti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arch Internet for those doing science in same field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te correspondence with authors of publications and conference reports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work while attending international conferences and exhibition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ult with STCU Partnership Group, Project Coordinators, and other staff members experienced in establishing cooperation with international institution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1115640" y="5925960"/>
            <a:ext cx="7736760" cy="4230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also how one investigates possible sources of funding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8D7AD-55A9-4D80-B247-04CE75C52587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51F5C7-11CD-4501-B37B-00CEFA85E80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tacting a Potential Collaborat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70588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do STCU scientists recommen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e yourself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, briefly, your experience in the fiel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what the collaborator might find interesting about your proposed proje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k if he knows anyone who might be interested in serving as an unpaid advisor to your project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he says, ‘I might be interested…”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h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be the ways that collaborators typically hel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are introductory material on STCU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e more detailed project information (with a non-disclosure agreement in place, if project is commercially-sensitiv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4F26D-86FC-4C26-99D8-1D3F7A2598B7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5333FF-249E-4B15-BA46-CCCDB8A7CD4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nefits of Collabo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70588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Western Collaborator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act with highly-skilled scientists and engineers from Georgia, Uzbekistan and Azerbaijan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ticipation in experiments at unique installations and facilities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ticipated results arising from STCU Projects, (with protection of the Intellectual Property Rights of project participant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d focus and efficiency of Research and Development activity through information exchange and consultation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tential stake in commercialization of resul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FC09B-CC0B-4615-AA9E-8D13C3A908BB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D7A752-EFB8-4F95-B3C4-32A4DCA86C7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nefits of Collabo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910440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STCU Project Participa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ment in the design and execution of projects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urance that projects do not duplicate existing efforts in the same fields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istance in identifying appropriate sources of special materials and equipment to be used in projects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quisition of new skills, experience and contacts with related research centers in other countries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uidance on how best to internationally disseminate the results of research and developmen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ng-term cooperation in science and technology from experience gained during project implement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7BAD9-284F-4878-B945-694E03960B21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C1361F-E5EA-4449-A71B-5C49FB99CA8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tters of Supp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70588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7800" indent="-577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Letter of Support </a:t>
            </a:r>
            <a:r>
              <a:rPr b="0" lang="en" sz="2400" spc="-1" strike="noStrike">
                <a:solidFill>
                  <a:srgbClr val="000000"/>
                </a:solidFill>
                <a:latin typeface="Arial"/>
              </a:rPr>
              <a:t>is an relatively </a:t>
            </a: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passive</a:t>
            </a:r>
            <a:r>
              <a:rPr b="0" lang="en" sz="2400" spc="-1" strike="noStrike">
                <a:solidFill>
                  <a:srgbClr val="000000"/>
                </a:solidFill>
                <a:latin typeface="Arial"/>
              </a:rPr>
              <a:t> expression of approval by a Western scientist regar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000000"/>
                </a:solidFill>
                <a:latin typeface="Arial"/>
              </a:rPr>
              <a:t>a scientist, project team or institute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000000"/>
                </a:solidFill>
                <a:latin typeface="Arial"/>
              </a:rPr>
              <a:t>the direction of current or proposed research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000000"/>
                </a:solidFill>
                <a:latin typeface="Arial"/>
              </a:rPr>
              <a:t>positive past experiences working with the team; 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000000"/>
                </a:solidFill>
                <a:latin typeface="Arial"/>
              </a:rPr>
              <a:t>the value of proposed research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7800" indent="-577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000000"/>
                </a:solidFill>
                <a:latin typeface="Arial"/>
              </a:rPr>
              <a:t>A Letter of Support differs from a Pledge of Collaboration by virtue of two element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000000"/>
                </a:solidFill>
                <a:latin typeface="Arial"/>
              </a:rPr>
              <a:t>it does not contain a specific assessment of the strength of the current proposal and/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000000"/>
                </a:solidFill>
                <a:latin typeface="Arial"/>
              </a:rPr>
              <a:t>it does not convey a clear commitment to future participation or engagement in that projec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7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5408F-5954-4832-98EA-B94E6EDB82A1}" type="slidenum">
              <a:t>3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837FBB-C19C-4F20-AE23-ED48BBB83B8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CU Requir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70588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7800" indent="-577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rrent STCU policy requir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000000"/>
                </a:solidFill>
                <a:latin typeface="Arial"/>
              </a:rPr>
              <a:t>One Letter of Collaboration or two Letters of Support before a regular project proposal can leave STCU for review by the Financing Par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000000"/>
                </a:solidFill>
                <a:latin typeface="Arial"/>
              </a:rPr>
              <a:t>If a project is selected for funding, the project team must find a Collaborator from the territory of the funding Party before the project agreement can be finaliz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27320" indent="-412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000000"/>
                </a:solidFill>
                <a:latin typeface="Arial"/>
              </a:rPr>
              <a:t>If the original Letter of Collaboration was from a scientist in the EU, and the project is funded by the U.S., they will need to locate a U.S. Collaborat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27320" indent="-412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000000"/>
                </a:solidFill>
                <a:latin typeface="Arial"/>
              </a:rPr>
              <a:t>If the project had only Letters of Support, they will now need to find a Collaborat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128520" y="6203880"/>
            <a:ext cx="9705960" cy="4777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funded STCU projects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u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ve a Partner or a Collabora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DD836-6EC2-4DA7-8C0E-8F79CCD2CA5F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1E28BD-4D59-40F0-AFF7-F4022DED377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70588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CU offers scientists three paths to fund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ular Projects funded from a shared pot of fu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tner Projects funded by Government bod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tner Projects funded by commercial organiz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three paths share common ele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st Government Concur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CU Project Monito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gagement with Western scientific or technical personnel, either as Partners (donors) or as Collaborators (volunteer adviso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BB827-4AE5-4CF7-9E43-E12F70A50247}" type="slidenum">
              <a:t>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04252F-DBD9-4B03-9D6A-1C05FA6D3FE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ur Mis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79160" y="162864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nprolifer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vent the spread of Weapons of Mass Destruction (WMD) expertise by support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vilian research and development activities of Azeri, Georgian, Moldovan, Ukrainian and Uzbek scientists and engineers formerly involved with WM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their means of delive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stainable Redirec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opportunities for former WMD scientists and engineers to develop sustainable civilian research work 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424160" y="4869000"/>
            <a:ext cx="7273800" cy="119124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 be eligible for STCU funding, at least 30%, and preferably 50%, of the members of a proposed project team must be former weapons scientists.*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949040" y="6467400"/>
            <a:ext cx="591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See subsequent slide on ‘Who may apply?’ for suggestions on meeting this criter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E0A2B-09DE-4CD9-B3EF-F79D2E0AC960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3B17A1-F07E-4C4E-9096-2C60A0E9D1B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" name=""/>
          <p:cNvGrpSpPr/>
          <p:nvPr/>
        </p:nvGrpSpPr>
        <p:grpSpPr>
          <a:xfrm>
            <a:off x="8545680" y="4749840"/>
            <a:ext cx="428040" cy="725040"/>
            <a:chOff x="8545680" y="4749840"/>
            <a:chExt cx="428040" cy="725040"/>
          </a:xfrm>
        </p:grpSpPr>
        <p:sp>
          <p:nvSpPr>
            <p:cNvPr id="66" name=""/>
            <p:cNvSpPr/>
            <p:nvPr/>
          </p:nvSpPr>
          <p:spPr>
            <a:xfrm>
              <a:off x="8545680" y="4749840"/>
              <a:ext cx="194400" cy="725040"/>
            </a:xfrm>
            <a:prstGeom prst="downArrow">
              <a:avLst>
                <a:gd name="adj1" fmla="val 50000"/>
                <a:gd name="adj2" fmla="val 93241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779680" y="4749840"/>
              <a:ext cx="194040" cy="725040"/>
            </a:xfrm>
            <a:prstGeom prst="downArrow">
              <a:avLst>
                <a:gd name="adj1" fmla="val 50000"/>
                <a:gd name="adj2" fmla="val 93414"/>
              </a:avLst>
            </a:prstGeom>
            <a:solidFill>
              <a:srgbClr val="8194f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" name=""/>
          <p:cNvSpPr/>
          <p:nvPr/>
        </p:nvSpPr>
        <p:spPr>
          <a:xfrm>
            <a:off x="2478240" y="6391440"/>
            <a:ext cx="135720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org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nancing &amp; Recipient Par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2887560" y="4749840"/>
            <a:ext cx="428400" cy="736200"/>
            <a:chOff x="2887560" y="4749840"/>
            <a:chExt cx="428400" cy="736200"/>
          </a:xfrm>
        </p:grpSpPr>
        <p:sp>
          <p:nvSpPr>
            <p:cNvPr id="71" name=""/>
            <p:cNvSpPr/>
            <p:nvPr/>
          </p:nvSpPr>
          <p:spPr>
            <a:xfrm>
              <a:off x="2887560" y="4749840"/>
              <a:ext cx="194400" cy="736200"/>
            </a:xfrm>
            <a:prstGeom prst="downArrow">
              <a:avLst>
                <a:gd name="adj1" fmla="val 50000"/>
                <a:gd name="adj2" fmla="val 9467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121560" y="4749840"/>
              <a:ext cx="194400" cy="736200"/>
            </a:xfrm>
            <a:prstGeom prst="downArrow">
              <a:avLst>
                <a:gd name="adj1" fmla="val 50000"/>
                <a:gd name="adj2" fmla="val 94676"/>
              </a:avLst>
            </a:prstGeom>
            <a:solidFill>
              <a:srgbClr val="8194f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88000" y="2462040"/>
            <a:ext cx="461880" cy="1346400"/>
          </a:xfrm>
          <a:prstGeom prst="downArrow">
            <a:avLst>
              <a:gd name="adj1" fmla="val 50000"/>
              <a:gd name="adj2" fmla="val 72876"/>
            </a:avLst>
          </a:prstGeom>
          <a:gradFill rotWithShape="0">
            <a:gsLst>
              <a:gs pos="0">
                <a:srgbClr val="8194f1"/>
              </a:gs>
              <a:gs pos="100000">
                <a:srgbClr val="8194f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642000" y="2571840"/>
            <a:ext cx="462240" cy="1233360"/>
          </a:xfrm>
          <a:prstGeom prst="downArrow">
            <a:avLst>
              <a:gd name="adj1" fmla="val 50000"/>
              <a:gd name="adj2" fmla="val 6670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790720" y="2579760"/>
            <a:ext cx="463680" cy="1230120"/>
          </a:xfrm>
          <a:prstGeom prst="downArrow">
            <a:avLst>
              <a:gd name="adj1" fmla="val 50000"/>
              <a:gd name="adj2" fmla="val 6632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6135840" y="2209680"/>
            <a:ext cx="1520640" cy="990720"/>
            <a:chOff x="6135840" y="2209680"/>
            <a:chExt cx="1520640" cy="990720"/>
          </a:xfrm>
        </p:grpSpPr>
        <p:sp>
          <p:nvSpPr>
            <p:cNvPr id="77" name=""/>
            <p:cNvSpPr/>
            <p:nvPr/>
          </p:nvSpPr>
          <p:spPr>
            <a:xfrm flipV="1">
              <a:off x="6135840" y="2209680"/>
              <a:ext cx="1520640" cy="9907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276600" y="2382840"/>
              <a:ext cx="1215360" cy="69372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Govern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artner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361800" y="3801960"/>
            <a:ext cx="693720" cy="943200"/>
          </a:xfrm>
          <a:prstGeom prst="rect">
            <a:avLst/>
          </a:prstGeom>
          <a:ln w="0">
            <a:noFill/>
          </a:ln>
        </p:spPr>
      </p:pic>
      <p:grpSp>
        <p:nvGrpSpPr>
          <p:cNvPr id="80" name=""/>
          <p:cNvGrpSpPr/>
          <p:nvPr/>
        </p:nvGrpSpPr>
        <p:grpSpPr>
          <a:xfrm>
            <a:off x="2270160" y="2197080"/>
            <a:ext cx="1520640" cy="990720"/>
            <a:chOff x="2270160" y="2197080"/>
            <a:chExt cx="1520640" cy="990720"/>
          </a:xfrm>
        </p:grpSpPr>
        <p:sp>
          <p:nvSpPr>
            <p:cNvPr id="81" name=""/>
            <p:cNvSpPr/>
            <p:nvPr/>
          </p:nvSpPr>
          <p:spPr>
            <a:xfrm flipV="1">
              <a:off x="2270160" y="2197080"/>
              <a:ext cx="1520640" cy="9907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435760" y="2311560"/>
              <a:ext cx="1215000" cy="69372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Non-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Govern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artner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" name=""/>
          <p:cNvSpPr/>
          <p:nvPr/>
        </p:nvSpPr>
        <p:spPr>
          <a:xfrm>
            <a:off x="277920" y="6426360"/>
            <a:ext cx="1768320" cy="31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zerbaij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4259160" y="1874880"/>
            <a:ext cx="1514520" cy="8334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6153120" y="5478480"/>
            <a:ext cx="1513080" cy="83196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8002440" y="5481720"/>
            <a:ext cx="1513080" cy="831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5"/>
          <a:stretch/>
        </p:blipFill>
        <p:spPr>
          <a:xfrm>
            <a:off x="271440" y="5481720"/>
            <a:ext cx="1792440" cy="83016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272880" y="3813120"/>
            <a:ext cx="9344160" cy="936720"/>
          </a:xfrm>
          <a:prstGeom prst="roundRect">
            <a:avLst>
              <a:gd name="adj" fmla="val 1661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 Narrow"/>
              </a:rPr>
              <a:t>     </a:t>
            </a:r>
            <a:r>
              <a:rPr b="1" lang="en-US" sz="3900" spc="-1" strike="noStrike">
                <a:solidFill>
                  <a:srgbClr val="000000"/>
                </a:solidFill>
                <a:latin typeface="Arial Narrow"/>
              </a:rPr>
              <a:t>Science &amp; Technology Center in Ukraine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6696000" y="4751280"/>
            <a:ext cx="428400" cy="726840"/>
            <a:chOff x="6696000" y="4751280"/>
            <a:chExt cx="428400" cy="726840"/>
          </a:xfrm>
        </p:grpSpPr>
        <p:sp>
          <p:nvSpPr>
            <p:cNvPr id="90" name=""/>
            <p:cNvSpPr/>
            <p:nvPr/>
          </p:nvSpPr>
          <p:spPr>
            <a:xfrm>
              <a:off x="6696000" y="4751280"/>
              <a:ext cx="194760" cy="726840"/>
            </a:xfrm>
            <a:prstGeom prst="downArrow">
              <a:avLst>
                <a:gd name="adj1" fmla="val 50000"/>
                <a:gd name="adj2" fmla="val 9329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30000" y="4751280"/>
              <a:ext cx="194400" cy="726840"/>
            </a:xfrm>
            <a:prstGeom prst="downArrow">
              <a:avLst>
                <a:gd name="adj1" fmla="val 50000"/>
                <a:gd name="adj2" fmla="val 93472"/>
              </a:avLst>
            </a:prstGeom>
            <a:solidFill>
              <a:srgbClr val="8194f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955800" y="4751280"/>
            <a:ext cx="426600" cy="728280"/>
            <a:chOff x="955800" y="4751280"/>
            <a:chExt cx="426600" cy="728280"/>
          </a:xfrm>
        </p:grpSpPr>
        <p:sp>
          <p:nvSpPr>
            <p:cNvPr id="93" name=""/>
            <p:cNvSpPr/>
            <p:nvPr/>
          </p:nvSpPr>
          <p:spPr>
            <a:xfrm>
              <a:off x="955800" y="4751280"/>
              <a:ext cx="193680" cy="728280"/>
            </a:xfrm>
            <a:prstGeom prst="downArrow">
              <a:avLst>
                <a:gd name="adj1" fmla="val 50000"/>
                <a:gd name="adj2" fmla="val 9400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189080" y="4751280"/>
              <a:ext cx="193320" cy="728280"/>
            </a:xfrm>
            <a:prstGeom prst="downArrow">
              <a:avLst>
                <a:gd name="adj1" fmla="val 50000"/>
                <a:gd name="adj2" fmla="val 94181"/>
              </a:avLst>
            </a:prstGeom>
            <a:solidFill>
              <a:srgbClr val="8194f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" name=""/>
          <p:cNvSpPr/>
          <p:nvPr/>
        </p:nvSpPr>
        <p:spPr>
          <a:xfrm>
            <a:off x="8620200" y="2467080"/>
            <a:ext cx="461880" cy="1346040"/>
          </a:xfrm>
          <a:prstGeom prst="downArrow">
            <a:avLst>
              <a:gd name="adj1" fmla="val 50000"/>
              <a:gd name="adj2" fmla="val 72857"/>
            </a:avLst>
          </a:prstGeom>
          <a:gradFill rotWithShape="0">
            <a:gsLst>
              <a:gs pos="0">
                <a:srgbClr val="8194f1"/>
              </a:gs>
              <a:gs pos="100000">
                <a:srgbClr val="7486d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50760" y="2476440"/>
            <a:ext cx="463680" cy="1346400"/>
          </a:xfrm>
          <a:prstGeom prst="downArrow">
            <a:avLst>
              <a:gd name="adj1" fmla="val 50000"/>
              <a:gd name="adj2" fmla="val 72593"/>
            </a:avLst>
          </a:prstGeom>
          <a:gradFill rotWithShape="0">
            <a:gsLst>
              <a:gs pos="0">
                <a:srgbClr val="8194f1"/>
              </a:gs>
              <a:gs pos="100000">
                <a:srgbClr val="7c8ee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6"/>
          <a:stretch/>
        </p:blipFill>
        <p:spPr>
          <a:xfrm>
            <a:off x="417600" y="1862280"/>
            <a:ext cx="1514520" cy="8316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7"/>
          <a:stretch/>
        </p:blipFill>
        <p:spPr>
          <a:xfrm>
            <a:off x="8089920" y="1893960"/>
            <a:ext cx="1504800" cy="8316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6195960" y="6389640"/>
            <a:ext cx="149400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kra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037360" y="6404040"/>
            <a:ext cx="1435320" cy="33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zbekist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04920" y="2681280"/>
            <a:ext cx="1768320" cy="316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160880" y="2708280"/>
            <a:ext cx="1768320" cy="316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864560" y="2708280"/>
            <a:ext cx="1768320" cy="316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.S.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2425680" y="5486040"/>
            <a:ext cx="1338120" cy="832320"/>
            <a:chOff x="2425680" y="5486040"/>
            <a:chExt cx="1338120" cy="832320"/>
          </a:xfrm>
        </p:grpSpPr>
        <p:pic>
          <p:nvPicPr>
            <p:cNvPr id="105" name="" descr=""/>
            <p:cNvPicPr/>
            <p:nvPr/>
          </p:nvPicPr>
          <p:blipFill>
            <a:blip r:embed="rId8"/>
            <a:stretch/>
          </p:blipFill>
          <p:spPr>
            <a:xfrm>
              <a:off x="2425680" y="5486400"/>
              <a:ext cx="1338120" cy="83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 flipV="1">
              <a:off x="3763800" y="5486040"/>
              <a:ext cx="0" cy="82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" name=""/>
          <p:cNvSpPr/>
          <p:nvPr/>
        </p:nvSpPr>
        <p:spPr>
          <a:xfrm>
            <a:off x="271440" y="5489640"/>
            <a:ext cx="0" cy="830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71440" y="6313320"/>
            <a:ext cx="1774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9"/>
          <a:stretch/>
        </p:blipFill>
        <p:spPr>
          <a:xfrm>
            <a:off x="4122720" y="5495760"/>
            <a:ext cx="1655640" cy="81756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4232160" y="6381720"/>
            <a:ext cx="135756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ldo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4740120" y="4751280"/>
            <a:ext cx="428400" cy="736200"/>
            <a:chOff x="4740120" y="4751280"/>
            <a:chExt cx="428400" cy="736200"/>
          </a:xfrm>
        </p:grpSpPr>
        <p:sp>
          <p:nvSpPr>
            <p:cNvPr id="112" name=""/>
            <p:cNvSpPr/>
            <p:nvPr/>
          </p:nvSpPr>
          <p:spPr>
            <a:xfrm>
              <a:off x="4740120" y="4751280"/>
              <a:ext cx="194400" cy="736200"/>
            </a:xfrm>
            <a:prstGeom prst="downArrow">
              <a:avLst>
                <a:gd name="adj1" fmla="val 50000"/>
                <a:gd name="adj2" fmla="val 9467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974120" y="4751280"/>
              <a:ext cx="194400" cy="736200"/>
            </a:xfrm>
            <a:prstGeom prst="downArrow">
              <a:avLst>
                <a:gd name="adj1" fmla="val 50000"/>
                <a:gd name="adj2" fmla="val 94676"/>
              </a:avLst>
            </a:prstGeom>
            <a:solidFill>
              <a:srgbClr val="8194f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C452C-84E0-494B-AC91-B958F72619DD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6D0162-AF63-4F4A-A9F0-E1A4F540CB6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o can appl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79160" y="162864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CU Recipient Party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rganization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ubmit project proposa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y be an institute, university, design office, state enterprise, corporation, firm, fund, foundation, or other legally-registered organiz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ral organizations, in one or more STCU recipient countries, may submit a ‘joint proposal.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ject team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led by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ject manager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develop proposa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grant recipients must be citizens of an STCU recipient country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 least 30%, preferably 50%, of the team must formerly have been involved with weapons of mass destruction and their means of delive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ng scientists may participate;  they can even form and lead their own teams, so long as the resultant team meets STCU guidel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oint Proposal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nable small groups of scientists to compete effectively, by allowing them to add resources from other organizations to includ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fficient numbers of former weapons scientists to meet STCU guideline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alists with skills or abilities critical to achieve project objectiv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A4358-BF57-40A5-B759-37726A056EBB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2C7B30-9555-4F79-BA7D-34790C763A6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TCU Collaborative Scientific Resear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gula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rojects are funded by governments of Financing Part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rtn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rojects are funded by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overnment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ivate-secto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zations in the territories of the Financing Part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008160" y="4005360"/>
            <a:ext cx="3816360" cy="1633320"/>
          </a:xfrm>
          <a:prstGeom prst="hexagon">
            <a:avLst>
              <a:gd name="adj" fmla="val 58414"/>
              <a:gd name="vf" fmla="val 11547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overnmenta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rt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jec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595840" y="5025960"/>
            <a:ext cx="3529080" cy="15130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n-Governmental Partner Projec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920880" y="4910040"/>
            <a:ext cx="3025800" cy="14716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gul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jec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0DAA2-E14B-48EE-9866-4B30E3A9FE2B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4E663C-84A0-498D-AA05-D17C7ABC55F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ree types of STCU Projec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gula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ed for funding based on multiple considerations, which may include technical merit, contribution to non-proliferation aims, policy priorities, potential for integration of scientists into global science community, commercial potential or prospect for sustainabil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osal competes with all other regular project proposa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n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ojec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overnment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parate pots of money, separate r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n-Governmental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competition; just need to locate willing partner to finance project &amp; receive STCU approv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084560" y="4149720"/>
            <a:ext cx="1228680" cy="525600"/>
          </a:xfrm>
          <a:prstGeom prst="hexagon">
            <a:avLst>
              <a:gd name="adj" fmla="val 58442"/>
              <a:gd name="vf" fmla="val 11547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952880" y="5067360"/>
            <a:ext cx="1219320" cy="52236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73600" y="1557360"/>
            <a:ext cx="863640" cy="504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B0B3D-6D7B-47B9-AAB2-13EF5E2F6717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8A6D1A-94BE-4CD6-A882-DBB6B7DCB0F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TCU Supplemental Activ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tent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vel Gr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for workshops and confer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tchmaking services for Partn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siness missions and trade sh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net upgra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992160" y="5477040"/>
            <a:ext cx="7845480" cy="8254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mer Weapons Scientists who have not received STCU project funding may participate in many of these activit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2B4DE-2BF1-4977-ADD5-79BD72E2AB80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F6B3D3-7CD2-431D-A762-E8DE269F504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8T10:44:12Z</dcterms:created>
  <dc:creator>Chris Stuebner</dc:creator>
  <dc:description/>
  <dc:language>en-US</dc:language>
  <cp:lastModifiedBy>Chris Stuebner</cp:lastModifiedBy>
  <dcterms:modified xsi:type="dcterms:W3CDTF">2005-03-07T12:18:58Z</dcterms:modified>
  <cp:revision>39</cp:revision>
  <dc:subject/>
  <dc:title>Grant-Writing Workshop:  Competing More Effectively</dc:title>
</cp:coreProperties>
</file>