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712800" y="744120"/>
            <a:ext cx="537696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B3A6-B643-44C9-A7C6-6F3E85ADD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CI provided 3 millions for study on the 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sequences of Chernobyl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cident on th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oid cancer and leuk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a de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ARD funding in the amount of 1.9 millions was provided pref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ably for basic research in the area of material science, namely tit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and alu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loys that includes a one half of this funding; the other half supported research in optics, nuclear physics,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cond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rs, healt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DA approved 14 projects in BIO area with Uzbek institutes and funded up to date 9 of them in the amount of 2.7 millions, There are 4projects at the Institute of Gen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cs and Plant Experimental Biology, 2 projects at the Institute of Bioorg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c Chemistry, 2 projects at the Institute of Z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gy, and 1 at the Cotton Growing Re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ch Institute. The list of the projects will be provid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PP supported 9 projects in the amount of 3.6 millions, the most of these projects are dealing with the pre-commercialization stage aimed at the creation of new employments in Ukraine. The most impressive projects will be present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PA has become STCU Partner recently, in 2003; the first project will be launched soon; it will be devoted to 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agement and Destruction of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solete Pesticides in Pilot Oblasts in Ukraine (Cherkassy and Lviv Oblast).</a:t>
            </a: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IPP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ultip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e coating machine that will be installed at the General Electric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ding and Brazing Technology for Repair of Aircraft and Gas Turbine that will be implemented in Ukraine in cooperation with Pratt&amp;Whittney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w revol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onary Europium Technology for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tizing Food and Medical supplies, which creates a cornerstone for future multimillion industry (Invitation to the Presentation/Workshop is attached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44C8-5740-4142-8F59-9CFBD1257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na:  n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9.7 million provided by the Non-governmental Partners up to date there is 1.6 million from Canada, 0.6 million from EU, and 7.6 million from the U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696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6960" cy="3722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roduce ‘line’ activity, as refer to picture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volvement of three different areas:   Project Mgmt, Acct, and Ad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ority for S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ilar, with fourth player:  Partnership M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, STCU Governing Parties include 8 sta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, EU, and the USA are the Fund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untries of the FSU are the Recipient Pa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97 STCU has 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hed a Partner Program providing govern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al agencies and pri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, industrial companies 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stered at the territories of Funding Parties with a possibility of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ess to highly q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ied scientific community of the Recipient Countries and implem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 of R&amp;D projects using STCU s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ices and p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 including project administ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, 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oring, and 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p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e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8CA-6D3B-4E80-B51A-D85C8B20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3865-AF82-4777-BB55-A8DD6FE6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E7E-7AC4-4191-AB63-AB2C2382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20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92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20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92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0B44-6E9C-45EB-AE6C-E8C0F532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63E-F23C-49F2-80F2-9EF87DC8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C5B-C811-482F-BBC0-7B66350F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014-38DB-4965-B522-3E3E9F6D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C43-DC4F-4DE1-AEEF-F3BD776A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4520" y="2743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9FD0-7F4C-436B-9C58-7A38C353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4A9E-FBED-4C58-845C-D460CC72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B65-1B14-40DD-BEE8-6F11FE3F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D90-7681-4529-ABDA-F700D578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360" y="6453000"/>
            <a:ext cx="25974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7534-5F34-4079-A843-51B9C3A0FD5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53000"/>
            <a:ext cx="31366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453000"/>
            <a:ext cx="20638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A224-3F0B-42DC-AD21-79A3048D2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0160" y="284040"/>
            <a:ext cx="769680" cy="113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-Writing Workshop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ng More Effec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ing Your Ability to Compete for STCU Grants, Part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&amp; TECHNOLOGY CENTER IN UK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58440" y="6464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Project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90600" y="1633680"/>
          <a:ext cx="976608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1633680"/>
                    <a:ext cx="976608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10800000">
            <a:off x="272520" y="3087720"/>
            <a:ext cx="423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ding, $US Mill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87960" y="1125360"/>
            <a:ext cx="671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99"/>
                </a:solidFill>
                <a:latin typeface="Arial"/>
              </a:rPr>
              <a:t>Disbursement of funds for on-going project activities, i.e., not grants awarded for futur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48520" y="5084640"/>
            <a:ext cx="121932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473960" y="5445000"/>
            <a:ext cx="57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00880" y="2298600"/>
            <a:ext cx="504720" cy="1489320"/>
          </a:xfrm>
          <a:custGeom>
            <a:avLst/>
            <a:gdLst>
              <a:gd name="textAreaLeft" fmla="*/ 322560 w 504720"/>
              <a:gd name="textAreaRight" fmla="*/ 505080 w 504720"/>
              <a:gd name="textAreaTop" fmla="*/ 38520 h 1489320"/>
              <a:gd name="textAreaBottom" fmla="*/ 1450800 h 148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32880" y="215424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61240" y="3019320"/>
            <a:ext cx="1800360" cy="770040"/>
          </a:xfrm>
          <a:prstGeom prst="hexagon">
            <a:avLst>
              <a:gd name="adj" fmla="val 58450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34320" y="22478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75600" y="3138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53920" y="51577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B265-0B2F-4F4E-BE0D-DF41E798D0F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052D1-0BA2-4190-9DF8-6BD384CF1E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ke Use of STC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918036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ate, 17 Government Partners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ATOM Association,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Planck Institute of Plasma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Department of Energy/Initiatives for Proliferation Prevention (I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Na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s of Health/National Cancer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F European Office of Aerospace Research and Develop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-Chem Redirec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Department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Protection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16880" y="476280"/>
            <a:ext cx="1800000" cy="770040"/>
          </a:xfrm>
          <a:prstGeom prst="hexagon">
            <a:avLst>
              <a:gd name="adj" fmla="val 58439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6BE-70D5-4B4C-8A28-57D9C242BDF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9593D-517E-4E70-BB38-FE45DF7D10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-5776920" y="2205000"/>
          <a:ext cx="2000556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76920" y="2205000"/>
                    <a:ext cx="2000556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352520" y="1628640"/>
            <a:ext cx="71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:  81 Unique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16.5 Million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1.5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29600" y="404640"/>
            <a:ext cx="1800000" cy="770040"/>
          </a:xfrm>
          <a:prstGeom prst="hexagon">
            <a:avLst>
              <a:gd name="adj" fmla="val 58439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22680" y="6467400"/>
            <a:ext cx="44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stimated exchange rate, averaged over time, 1 USD: 1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247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655E-EEE0-4DBD-980F-98B625B9285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C9048-1287-4DDF-95A0-4CC495BF05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Governmental Partner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Key to Self-Sustain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ate, over 90 Non-Government Partners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+S Electron Technologies (California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M Corporation (Minnesota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ont (Delaware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Electric (New York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(New York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CL Chalk River Laboratories (Ontario, Can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fina (Paris, 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in (Clermont-Ferrand, 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77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A2F0-BDDF-43A0-84F5-31EBC225EFF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8CB29-4653-48E1-9932-FFC52A994E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Government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artne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-1569960" y="2203560"/>
          <a:ext cx="12815640" cy="43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69960" y="2203560"/>
                    <a:ext cx="12815640" cy="43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333520" y="1628640"/>
            <a:ext cx="521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:  76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9.1 Million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€0.5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61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7040" y="239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41400" y="6467400"/>
            <a:ext cx="44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stimated exchange rate, averaged over time, 1 USD: 1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3886-2115-46F0-B76C-3168C7D151C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F0D72-9E41-4732-9C55-00D993DE5F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Proces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1596960"/>
          <a:ext cx="874404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96960"/>
                    <a:ext cx="874404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874800" y="1487520"/>
            <a:ext cx="3862440" cy="52545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3800" y="1728720"/>
            <a:ext cx="3381120" cy="746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98440" y="1744560"/>
            <a:ext cx="323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Development of a proposal by the scientific tea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ON-LINE REGISTRATION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39680" y="2682720"/>
            <a:ext cx="3438360" cy="746280"/>
            <a:chOff x="1039680" y="2682720"/>
            <a:chExt cx="3438360" cy="746280"/>
          </a:xfrm>
        </p:grpSpPr>
        <p:sp>
          <p:nvSpPr>
            <p:cNvPr id="169" name=""/>
            <p:cNvSpPr/>
            <p:nvPr/>
          </p:nvSpPr>
          <p:spPr>
            <a:xfrm>
              <a:off x="1087920" y="2682720"/>
              <a:ext cx="339012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39680" y="2694240"/>
              <a:ext cx="3366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Solicitation of support from scientific collaborators in territories of Financing Par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14560" y="4149720"/>
            <a:ext cx="3384360" cy="745920"/>
            <a:chOff x="1114560" y="4149720"/>
            <a:chExt cx="3384360" cy="745920"/>
          </a:xfrm>
        </p:grpSpPr>
        <p:sp>
          <p:nvSpPr>
            <p:cNvPr id="172" name=""/>
            <p:cNvSpPr/>
            <p:nvPr/>
          </p:nvSpPr>
          <p:spPr>
            <a:xfrm>
              <a:off x="1114560" y="4149720"/>
              <a:ext cx="338436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98440" y="4149720"/>
              <a:ext cx="3254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view of the propos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y scientific advisors hired by each Financing Par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111320" y="5086440"/>
            <a:ext cx="3390480" cy="745920"/>
            <a:chOff x="1111320" y="5086440"/>
            <a:chExt cx="3390480" cy="745920"/>
          </a:xfrm>
        </p:grpSpPr>
        <p:sp>
          <p:nvSpPr>
            <p:cNvPr id="175" name=""/>
            <p:cNvSpPr/>
            <p:nvPr/>
          </p:nvSpPr>
          <p:spPr>
            <a:xfrm>
              <a:off x="1111320" y="5086440"/>
              <a:ext cx="339048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83280" y="5097960"/>
              <a:ext cx="2317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STCU Governing Bo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pproves project fu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June and Decemb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281600" y="6021360"/>
            <a:ext cx="3192120" cy="5202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Historically, only one in four propos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eventually wins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063800" y="3646440"/>
            <a:ext cx="3438000" cy="316080"/>
            <a:chOff x="1063800" y="3646440"/>
            <a:chExt cx="3438000" cy="316080"/>
          </a:xfrm>
        </p:grpSpPr>
        <p:sp>
          <p:nvSpPr>
            <p:cNvPr id="179" name=""/>
            <p:cNvSpPr/>
            <p:nvPr/>
          </p:nvSpPr>
          <p:spPr>
            <a:xfrm>
              <a:off x="1112040" y="3646440"/>
              <a:ext cx="3389760" cy="31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63800" y="3651120"/>
              <a:ext cx="336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Concurrence from Host Gover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257800" y="1487520"/>
            <a:ext cx="3943440" cy="525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009900"/>
              </a:gs>
              <a:gs pos="100000">
                <a:srgbClr val="3333cc"/>
              </a:gs>
            </a:gsLst>
            <a:lin ang="10800000"/>
          </a:gra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05560" y="1728720"/>
            <a:ext cx="3386160" cy="1379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53080" y="1747800"/>
            <a:ext cx="3317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Organisation from territory of one of the Financing Parties expresses interest in STCU program and applies to become a PARTN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99"/>
                </a:solidFill>
                <a:uFillTx/>
                <a:latin typeface="Arial"/>
              </a:rPr>
              <a:t>PARTIES’ APPROVAL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30 da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605560" y="3286080"/>
            <a:ext cx="3388680" cy="746280"/>
            <a:chOff x="5605560" y="3286080"/>
            <a:chExt cx="3388680" cy="746280"/>
          </a:xfrm>
        </p:grpSpPr>
        <p:sp>
          <p:nvSpPr>
            <p:cNvPr id="185" name=""/>
            <p:cNvSpPr/>
            <p:nvPr/>
          </p:nvSpPr>
          <p:spPr>
            <a:xfrm>
              <a:off x="5605560" y="3286080"/>
              <a:ext cx="338868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06960" y="3297600"/>
              <a:ext cx="2462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Partner and scientific t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gree on a pro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nd develop propos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619600" y="4699080"/>
            <a:ext cx="3391200" cy="747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53080" y="4716360"/>
            <a:ext cx="326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Review of the proposal by officials of each Financing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45 da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65600" y="4194000"/>
            <a:ext cx="3438360" cy="316080"/>
            <a:chOff x="5565600" y="4194000"/>
            <a:chExt cx="3438360" cy="316080"/>
          </a:xfrm>
        </p:grpSpPr>
        <p:sp>
          <p:nvSpPr>
            <p:cNvPr id="190" name=""/>
            <p:cNvSpPr/>
            <p:nvPr/>
          </p:nvSpPr>
          <p:spPr>
            <a:xfrm>
              <a:off x="5613840" y="4194000"/>
              <a:ext cx="3390120" cy="31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5600" y="4198680"/>
              <a:ext cx="336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Concurrence from Host Gover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653080" y="5589720"/>
            <a:ext cx="3390840" cy="745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07160" y="5608800"/>
            <a:ext cx="316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STCU Governing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approves project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out-of-cyc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39800" y="10270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gula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33240" y="102708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ne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B16-7E8B-4084-8284-9F1DA3CA77A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D4433-7D93-4814-A6CF-6361855632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om-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ort required: clearly defined form and application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st competition for funding:  many applicants meet selection crite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al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ffort required, to identify program/s and fill out varied 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competitors: each program interests smaller group of applicants with focused research and development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Governmental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st effort required, to search for potential commercial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rect competitor for this source of fu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4D5-3FC3-47EB-B43A-EFEC424A345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F40B9-24A7-488F-B1D0-385E400E46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-Writing Workshop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ng More Effec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ing Your Ability to Compete for STCU Grants, 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&amp; TECHNOLOGY CENTER IN UK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58440" y="6464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Grantsma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Grantsmanship” defined; how to win new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-writing: content, form and sty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a “typical” propo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99ff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ngthening Abil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e for STCU 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ST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ow STCU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for STCU Regular Project Fund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US Review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65400" y="4522680"/>
            <a:ext cx="129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368F-97CB-46E8-9A78-1562BC14CA11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5D840-BC82-491B-888B-9341116217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TCU Do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channels assistance to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, tax-free payments (grants) to researchers’ personal bank accou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s clearance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urement of equipment and materials free of duties and t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ching in grant-writing and projec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helps donor countries achieve their policy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peaceful, civilian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government concurrence and security re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project management, including technical and financial monito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of Recipient Parties’ R&amp;D communiti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2B49-E4FA-4F4B-9F20-D8B4B2EA3CB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9CD6D-8947-4B7D-8FFB-596C8781B8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Grantsma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Grantsmanship” defined; how to win new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-writing: content, form and sty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a “typical” propo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99ff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ngthening Abil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e for STCU 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 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roduction to ST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TCU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for STCU Regular Project Fund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US Review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8160" y="4178160"/>
            <a:ext cx="12970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21A0-8A8E-4CB3-AFD1-25D030B16C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E46AA-07E7-4BD4-A653-1759BADB2D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TCU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must assure donors that monies are well-spent, towards aim of non-proliferation of WMD scientifi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project can be audited at donor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rants must be traceable to real scientists, doing re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TCU, salaries are of more importance than equi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posed purchases must clearly support ability of people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2A7-D393-4BEB-B64B-DFCF76FB769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83436-60A6-41B8-A673-AFBB369E25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CU Project Managemen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designates staff to monitor each regular and partner pro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Coordin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Accou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staff visit each project on a regular, scheduled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six months of operative commencem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year there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equently if problems encou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B017-22EE-4B43-8B7E-5A84F096C34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BC24A-1F40-4689-95BD-BC97A67DBF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Project Life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0160" y="3760920"/>
            <a:ext cx="9432720" cy="17557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0160" y="2008080"/>
            <a:ext cx="9432720" cy="1755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8964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354720" y="3594240"/>
            <a:ext cx="366480" cy="428760"/>
            <a:chOff x="6354720" y="3594240"/>
            <a:chExt cx="366480" cy="428760"/>
          </a:xfrm>
        </p:grpSpPr>
        <p:sp>
          <p:nvSpPr>
            <p:cNvPr id="220" name=""/>
            <p:cNvSpPr/>
            <p:nvPr/>
          </p:nvSpPr>
          <p:spPr>
            <a:xfrm>
              <a:off x="667692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5472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715000" y="3433680"/>
            <a:ext cx="0" cy="304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3459240"/>
            <a:ext cx="0" cy="304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8800" y="3413160"/>
            <a:ext cx="0" cy="304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642000" y="3592440"/>
            <a:ext cx="366480" cy="428760"/>
            <a:chOff x="6642000" y="3592440"/>
            <a:chExt cx="366480" cy="428760"/>
          </a:xfrm>
        </p:grpSpPr>
        <p:sp>
          <p:nvSpPr>
            <p:cNvPr id="226" name=""/>
            <p:cNvSpPr/>
            <p:nvPr/>
          </p:nvSpPr>
          <p:spPr>
            <a:xfrm>
              <a:off x="696420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4200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947640" y="3591000"/>
            <a:ext cx="366480" cy="428760"/>
            <a:chOff x="6947640" y="3591000"/>
            <a:chExt cx="366480" cy="428760"/>
          </a:xfrm>
        </p:grpSpPr>
        <p:sp>
          <p:nvSpPr>
            <p:cNvPr id="229" name=""/>
            <p:cNvSpPr/>
            <p:nvPr/>
          </p:nvSpPr>
          <p:spPr>
            <a:xfrm>
              <a:off x="72702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476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251480" y="3592440"/>
            <a:ext cx="366480" cy="428760"/>
            <a:chOff x="7251480" y="3592440"/>
            <a:chExt cx="366480" cy="428760"/>
          </a:xfrm>
        </p:grpSpPr>
        <p:sp>
          <p:nvSpPr>
            <p:cNvPr id="232" name=""/>
            <p:cNvSpPr/>
            <p:nvPr/>
          </p:nvSpPr>
          <p:spPr>
            <a:xfrm>
              <a:off x="757368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5148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556400" y="3591000"/>
            <a:ext cx="366480" cy="428760"/>
            <a:chOff x="7556400" y="3591000"/>
            <a:chExt cx="366480" cy="428760"/>
          </a:xfrm>
        </p:grpSpPr>
        <p:sp>
          <p:nvSpPr>
            <p:cNvPr id="235" name=""/>
            <p:cNvSpPr/>
            <p:nvPr/>
          </p:nvSpPr>
          <p:spPr>
            <a:xfrm>
              <a:off x="78786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5640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7861320" y="3592440"/>
            <a:ext cx="366480" cy="428760"/>
            <a:chOff x="7861320" y="3592440"/>
            <a:chExt cx="366480" cy="428760"/>
          </a:xfrm>
        </p:grpSpPr>
        <p:sp>
          <p:nvSpPr>
            <p:cNvPr id="238" name=""/>
            <p:cNvSpPr/>
            <p:nvPr/>
          </p:nvSpPr>
          <p:spPr>
            <a:xfrm>
              <a:off x="818352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6132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8165880" y="3594240"/>
            <a:ext cx="366480" cy="428760"/>
            <a:chOff x="8165880" y="3594240"/>
            <a:chExt cx="366480" cy="428760"/>
          </a:xfrm>
        </p:grpSpPr>
        <p:sp>
          <p:nvSpPr>
            <p:cNvPr id="241" name=""/>
            <p:cNvSpPr/>
            <p:nvPr/>
          </p:nvSpPr>
          <p:spPr>
            <a:xfrm>
              <a:off x="848808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6588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470800" y="3591000"/>
            <a:ext cx="366480" cy="428760"/>
            <a:chOff x="8470800" y="3591000"/>
            <a:chExt cx="366480" cy="428760"/>
          </a:xfrm>
        </p:grpSpPr>
        <p:sp>
          <p:nvSpPr>
            <p:cNvPr id="244" name=""/>
            <p:cNvSpPr/>
            <p:nvPr/>
          </p:nvSpPr>
          <p:spPr>
            <a:xfrm>
              <a:off x="87930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7080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209680" y="2720880"/>
            <a:ext cx="152424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ull-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62520" y="2720880"/>
            <a:ext cx="236376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Agreement &amp; Work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680" y="2720880"/>
            <a:ext cx="156204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(Short-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7120" y="2724120"/>
            <a:ext cx="28954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terly, Technical, Annual &amp; Final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7783560" y="3414600"/>
            <a:ext cx="1009440" cy="176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316640" y="3419640"/>
            <a:ext cx="387360" cy="171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7724520" y="3409560"/>
            <a:ext cx="43956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723000" y="3409560"/>
            <a:ext cx="1001880" cy="181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0800" y="376092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363528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914040" y="3760920"/>
            <a:ext cx="54752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39466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52720" y="3946680"/>
            <a:ext cx="13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al Cover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946680"/>
            <a:ext cx="19810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D approval 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5720" y="39466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Vis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irection Le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59120" y="4626000"/>
            <a:ext cx="6055920" cy="380880"/>
            <a:chOff x="2859120" y="4626000"/>
            <a:chExt cx="6055920" cy="380880"/>
          </a:xfrm>
        </p:grpSpPr>
        <p:sp>
          <p:nvSpPr>
            <p:cNvPr id="264" name=""/>
            <p:cNvSpPr/>
            <p:nvPr/>
          </p:nvSpPr>
          <p:spPr>
            <a:xfrm>
              <a:off x="2859120" y="4626000"/>
              <a:ext cx="1561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, 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82200" y="4626000"/>
              <a:ext cx="1763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 Project  Accountants, Procurem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52120" y="4626000"/>
              <a:ext cx="1762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 Project  Accountants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curem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5715000" y="3746160"/>
            <a:ext cx="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66880" y="3459240"/>
            <a:ext cx="15624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ov’t. Conc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378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9440" y="2035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1600" y="50594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CU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61D-DCBE-4428-9114-ED588317D64A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1B7B9-6480-440D-A46F-55AF8D107D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00160" y="3381480"/>
            <a:ext cx="9432720" cy="24238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0160" y="1628640"/>
            <a:ext cx="9432720" cy="1756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9440" y="16286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1600" y="52768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CU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Project Life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2924280"/>
            <a:ext cx="0" cy="581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2898720"/>
            <a:ext cx="0" cy="506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2209680"/>
            <a:ext cx="15238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ve-Page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2209680"/>
            <a:ext cx="167652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327672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91120" y="323856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56840" y="3402000"/>
            <a:ext cx="5522760" cy="32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181480" y="3401640"/>
            <a:ext cx="0" cy="17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3760" y="2971800"/>
            <a:ext cx="1560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ov’t. Conc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323208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09680"/>
            <a:ext cx="15238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ve-Page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2898720"/>
            <a:ext cx="0" cy="447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67080" y="5105520"/>
            <a:ext cx="176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 Accountant Procurem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D, 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3602160" y="3050640"/>
            <a:ext cx="75960" cy="984600"/>
          </a:xfrm>
          <a:custGeom>
            <a:avLst/>
            <a:gdLst>
              <a:gd name="textAreaLeft" fmla="*/ 48600 w 75960"/>
              <a:gd name="textAreaRight" fmla="*/ 76320 w 75960"/>
              <a:gd name="textAreaTop" fmla="*/ 25560 h 984600"/>
              <a:gd name="textAreaBottom" fmla="*/ 959040 h 98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21040" y="3543480"/>
            <a:ext cx="15606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45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79960" y="324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91120" y="324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945040" y="3235320"/>
            <a:ext cx="366480" cy="428760"/>
            <a:chOff x="5945040" y="3235320"/>
            <a:chExt cx="366480" cy="428760"/>
          </a:xfrm>
        </p:grpSpPr>
        <p:sp>
          <p:nvSpPr>
            <p:cNvPr id="295" name=""/>
            <p:cNvSpPr/>
            <p:nvPr/>
          </p:nvSpPr>
          <p:spPr>
            <a:xfrm>
              <a:off x="6267240" y="323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45040" y="33876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232320" y="3233880"/>
            <a:ext cx="366480" cy="428760"/>
            <a:chOff x="6232320" y="3233880"/>
            <a:chExt cx="366480" cy="428760"/>
          </a:xfrm>
        </p:grpSpPr>
        <p:sp>
          <p:nvSpPr>
            <p:cNvPr id="298" name=""/>
            <p:cNvSpPr/>
            <p:nvPr/>
          </p:nvSpPr>
          <p:spPr>
            <a:xfrm>
              <a:off x="655452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3232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537240" y="3232080"/>
            <a:ext cx="366480" cy="428760"/>
            <a:chOff x="6537240" y="3232080"/>
            <a:chExt cx="366480" cy="428760"/>
          </a:xfrm>
        </p:grpSpPr>
        <p:sp>
          <p:nvSpPr>
            <p:cNvPr id="301" name=""/>
            <p:cNvSpPr/>
            <p:nvPr/>
          </p:nvSpPr>
          <p:spPr>
            <a:xfrm>
              <a:off x="6859440" y="3232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37240" y="3384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842880" y="3233880"/>
            <a:ext cx="366480" cy="428760"/>
            <a:chOff x="6842880" y="3233880"/>
            <a:chExt cx="366480" cy="428760"/>
          </a:xfrm>
        </p:grpSpPr>
        <p:sp>
          <p:nvSpPr>
            <p:cNvPr id="304" name=""/>
            <p:cNvSpPr/>
            <p:nvPr/>
          </p:nvSpPr>
          <p:spPr>
            <a:xfrm>
              <a:off x="716436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4288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146720" y="3232080"/>
            <a:ext cx="366480" cy="428760"/>
            <a:chOff x="7146720" y="3232080"/>
            <a:chExt cx="366480" cy="428760"/>
          </a:xfrm>
        </p:grpSpPr>
        <p:sp>
          <p:nvSpPr>
            <p:cNvPr id="307" name=""/>
            <p:cNvSpPr/>
            <p:nvPr/>
          </p:nvSpPr>
          <p:spPr>
            <a:xfrm>
              <a:off x="7468920" y="3232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46720" y="3384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7451640" y="3233880"/>
            <a:ext cx="366480" cy="428760"/>
            <a:chOff x="7451640" y="3233880"/>
            <a:chExt cx="366480" cy="428760"/>
          </a:xfrm>
        </p:grpSpPr>
        <p:sp>
          <p:nvSpPr>
            <p:cNvPr id="310" name=""/>
            <p:cNvSpPr/>
            <p:nvPr/>
          </p:nvSpPr>
          <p:spPr>
            <a:xfrm>
              <a:off x="777384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5164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756200" y="3235320"/>
            <a:ext cx="366480" cy="428760"/>
            <a:chOff x="7756200" y="3235320"/>
            <a:chExt cx="366480" cy="428760"/>
          </a:xfrm>
        </p:grpSpPr>
        <p:sp>
          <p:nvSpPr>
            <p:cNvPr id="313" name=""/>
            <p:cNvSpPr/>
            <p:nvPr/>
          </p:nvSpPr>
          <p:spPr>
            <a:xfrm>
              <a:off x="8078400" y="323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56200" y="33876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8383680" y="3105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62200" y="3384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43760" y="2209680"/>
            <a:ext cx="281916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eliv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terly, Final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7316640" y="2898720"/>
            <a:ext cx="106704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905520" y="2898720"/>
            <a:ext cx="4111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316280" y="2898360"/>
            <a:ext cx="438120" cy="351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313320" y="2898720"/>
            <a:ext cx="10033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91120" y="340200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3728880"/>
            <a:ext cx="1981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14680" y="3852720"/>
            <a:ext cx="1438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ing Parties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ight of Refu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3600" y="37180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Vis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ers of Re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42080" y="5105520"/>
            <a:ext cx="176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 Accoun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D, 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991720" y="228600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772480" y="24336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915400" y="259092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834400" y="27525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8834400" y="2461680"/>
            <a:ext cx="328680" cy="2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4749840"/>
            <a:ext cx="4724280" cy="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81480" y="4749840"/>
            <a:ext cx="4591080" cy="0"/>
          </a:xfrm>
          <a:prstGeom prst="line">
            <a:avLst/>
          </a:prstGeom>
          <a:ln w="19044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680" y="4597560"/>
            <a:ext cx="2349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nership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990720" y="34286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91120" y="4938840"/>
            <a:ext cx="979200" cy="0"/>
          </a:xfrm>
          <a:prstGeom prst="line">
            <a:avLst/>
          </a:prstGeom>
          <a:ln w="190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95880" y="4938840"/>
            <a:ext cx="3187800" cy="0"/>
          </a:xfrm>
          <a:prstGeom prst="line">
            <a:avLst/>
          </a:prstGeom>
          <a:ln w="190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43680" y="4800600"/>
            <a:ext cx="2172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91120" y="441972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4944960"/>
            <a:ext cx="3200400" cy="0"/>
          </a:xfrm>
          <a:prstGeom prst="line">
            <a:avLst/>
          </a:prstGeom>
          <a:ln w="190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7700-98EF-4058-AA76-CF5B65F773B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4E4C8-A4C0-4815-A87F-34433AF1A3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TCU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seeks to help integrate former weapons scientists into the broader international scient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*must* invite Western colleagues to take an interest in their project’s progr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a “Collaborator” is *required* for all regular projec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 to conferences &amp; to meet Western colleagues is encoura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14C-BEE6-4D85-BE4A-4CCD310792A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2274E-5244-4301-A507-2F337626D0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“Collaborator” M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fic or technical expert from the territory of the Financing Party wh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s as an un-paid advisor in a regular STCU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dges, in writing, to assist STCU grant recip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of involvement may vary; minimum expec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project work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the technical merits and feasibility of that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that evaluation with the scientific team and financing Part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regularly with the project team for lifetime of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affiliation may 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r private-sector may be more useful to scientis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ademic or government lab affiliation, so far, more typ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E64F-42E2-4967-A855-21786A21A5C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3DFF9-1595-40CA-AB62-B06E42598A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1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Prior to funding dec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Provide recommendations during the development of the draft project proposal and work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3333cc"/>
                </a:solidFill>
                <a:latin typeface="Arial"/>
              </a:rPr>
              <a:t>Review and assess work plan subsequent to HGC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  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Quality of science propos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Feasibility of approach and time li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Adequacy of equipment/material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During consideration of the project proposal, </a:t>
            </a:r>
            <a:r>
              <a:rPr b="1" lang="en" sz="2000" spc="-1" strike="noStrike">
                <a:solidFill>
                  <a:srgbClr val="3333cc"/>
                </a:solidFill>
                <a:latin typeface="Arial"/>
              </a:rPr>
              <a:t>communicate to the project team and to the financing Parties the results of this assessment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, express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of the work pl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Dis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along with reasons)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Limited 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along with a description of specific concer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794D-F1C4-448F-8A80-537F0FCB55D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A5F3A-B8F6-4415-8704-43AA45086B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Project fu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municate regularly by e-mail with CIS instit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view all quarterly project report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project team adjust technical and commercial language and terminology to an accepted level for a North American or European reader/revie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technical information or assistance, including mutual review of technical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vide guidance or recommend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ppropriate, to enable attainment of project goals as set out in the work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awareness of developments in applied science and technology that relate to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FC79-AAC8-447F-8931-745862B7794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BC2C8-CA85-41E0-A009-31509E783E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3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As Project progr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Recruit other foreign collaborators to assist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mmunicate results of related on-going studies in West, particularly at collaborator’s labora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Share scarce materials, samples, and/or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elp project team select cost-advantageous research tools, instrumentation, and necessary chem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nduct joint or parallel investig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ssist with interpret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Verify results using independent methods and/or equi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F7C-D439-46BC-8681-51EEC2C0B2C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6394F-DFD4-49E5-B094-66BA2C4683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As Project progr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nduct joint seminars, workshops, and cons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ost scientists from project team and/or allow use of facilities at collaborator’s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Visit STCU scientists’ project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(recommended: at least once, but not more than three times over lifetime of STCU projec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Review and edit draft final report, to ensure it clearly reflects results of the research condu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ssist with publication and/or dissemin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elp with commercializ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09F2-DA2C-447E-B2C4-0A13C0E1748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A7C46-8473-4CFD-BBE6-DEDCBFB74A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STC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Mi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do we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here does the help 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upport We Pro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regular pro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partner pro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does the STCU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pick a path forw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C741-A605-4F91-BD23-446C9D96483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28830-BCED-48A4-83CF-E0535D7A9B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a Collabo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ethods have worked for other STCU scienti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Internet for those doing science in same fiel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 correspondence with authors of publications and conference repor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while attending international conferences and exhibi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 with STCU Partnership Group, Project Coordinators, and other staff members experienced in establishing cooperation with international institu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15640" y="5925960"/>
            <a:ext cx="7736760" cy="42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lso how one investigates possible sources of fund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15C-FD21-47C3-8403-97D9162C131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2C3AA-8417-4C24-A6EA-6D1873751A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ing a Potential Collabo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STCU scientists recomm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, briefly, your experience in the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the collaborator might find interesting about your proposed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if he knows anyone who might be interested in serving as an unpaid advisor to your projec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e says, ‘I might be interested…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ways that collaborators typically hel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introductory material on STC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more detailed project information (with a non-disclosure agreement in place, if project is commercially-sensi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DCBA-DB94-417C-A431-BF0861827F7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F26A0-1BFE-48F7-9B90-3063C86F91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estern Collaborat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with highly-skilled scientists and engineers from Georgia, Uzbekistan and Azerbaija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 in experiments at unique installations and facil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results arising from STCU Projects, (with protection of the Intellectual Property Rights of project participa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focus and efficiency of Research and Development activity through information exchange and consultat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stake in commercialization of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CF9-9EE3-4889-B225-05B0324422B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E46F7-049C-4C1D-8076-3E3556B789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04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CU Project Particip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the design and execution of projec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rance that projects do not duplicate existing efforts in the same field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in identifying appropriate sources of special materials and equipment to be used in projec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isition of new skills, experience and contacts with related research centers in other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ance on how best to internationally disseminate the results of research and develop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-term cooperation in science and technology from experience gained during project imple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410-BAB9-4968-A823-DC4A1A4AFF0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ECEBC-3873-4E3D-A77C-CEC5B140D2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s of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tter of Support 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is an relatively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expression of approval by a Western scientist reg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a scientist, project team or institut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the direction of current or proposed researc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positive past experiences working with the team;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the value of proposed research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 Letter of Support differs from a Pledge of Collaboration by virtue of two el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t does not contain a specific assessment of the strength of the current proposal and/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t does not convey a clear commitment to future participation or engagement in that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C53D-14CE-481E-8BF2-3F93A25D9AA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1399A-7476-4228-957E-7C0E391F49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CU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CU policy requi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One Letter of Collaboration or two Letters of Support before a regular project proposal can leave STCU for review by the Financing Pa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If a project is selected for funding, the project team must find a Collaborator from the territory of the funding Party before the project agreement can be fin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f the original Letter of Collaboration was from a scientist in the EU, and the project is funded by the U.S., they will need to locate a U.S. Collabo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f the project had only Letters of Support, they will now need to find a Collabo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8520" y="6203880"/>
            <a:ext cx="970596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unded STCU project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a Partner or a Collabo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474F-E096-4FE5-998B-071E92EFF84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DAA83-6792-40C6-A129-716B0A33A3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offers scientists three paths to fu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Projects funded from a shared pot of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 Projects funded by Government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 Projects funded by commerci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paths share commo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Government Concu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ment with Western scientific or technical personnel, either as Partners (donors) or as Collaborators (volunteer advis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9A0-CF12-447E-B1B9-ECC420769E3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A4D71-0D0D-400E-9A34-74B832B326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rolif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spread of Weapons of Mass Destruction (WMD) expertise by suppor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ian research and development activities of Azeri, Georgian, Moldovan, Ukrainian and Uzbek scientists and engineers formerly involved with WM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ir means of deli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tainable Re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pportunities for former WMD scientists and engineers to develop sustainable civilian research work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24160" y="4869000"/>
            <a:ext cx="727380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be eligible for STCU funding, at least 30%, and preferably 50%, of the members of a proposed project team must be former weapons scientists.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49040" y="6467400"/>
            <a:ext cx="59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e subsequent slide on ‘Who may apply?’ for suggestions on meeting this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90C-E92E-470E-81C9-8536481C35D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26ACE-5BAF-40B2-BB68-66E966E310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8545680" y="4749840"/>
            <a:ext cx="428040" cy="725040"/>
            <a:chOff x="8545680" y="4749840"/>
            <a:chExt cx="428040" cy="725040"/>
          </a:xfrm>
        </p:grpSpPr>
        <p:sp>
          <p:nvSpPr>
            <p:cNvPr id="66" name=""/>
            <p:cNvSpPr/>
            <p:nvPr/>
          </p:nvSpPr>
          <p:spPr>
            <a:xfrm>
              <a:off x="8545680" y="4749840"/>
              <a:ext cx="194400" cy="725040"/>
            </a:xfrm>
            <a:prstGeom prst="downArrow">
              <a:avLst>
                <a:gd name="adj1" fmla="val 50000"/>
                <a:gd name="adj2" fmla="val 932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779680" y="4749840"/>
              <a:ext cx="194040" cy="725040"/>
            </a:xfrm>
            <a:prstGeom prst="downArrow">
              <a:avLst>
                <a:gd name="adj1" fmla="val 50000"/>
                <a:gd name="adj2" fmla="val 93414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478240" y="6391440"/>
            <a:ext cx="1357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ncing &amp; Recipient Pa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887560" y="4749840"/>
            <a:ext cx="428400" cy="736200"/>
            <a:chOff x="2887560" y="4749840"/>
            <a:chExt cx="428400" cy="736200"/>
          </a:xfrm>
        </p:grpSpPr>
        <p:sp>
          <p:nvSpPr>
            <p:cNvPr id="71" name=""/>
            <p:cNvSpPr/>
            <p:nvPr/>
          </p:nvSpPr>
          <p:spPr>
            <a:xfrm>
              <a:off x="288756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156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88000" y="2462040"/>
            <a:ext cx="461880" cy="1346400"/>
          </a:xfrm>
          <a:prstGeom prst="downArrow">
            <a:avLst>
              <a:gd name="adj1" fmla="val 50000"/>
              <a:gd name="adj2" fmla="val 72876"/>
            </a:avLst>
          </a:prstGeom>
          <a:gradFill rotWithShape="0">
            <a:gsLst>
              <a:gs pos="0">
                <a:srgbClr val="8194f1"/>
              </a:gs>
              <a:gs pos="100000">
                <a:srgbClr val="8194f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42000" y="2571840"/>
            <a:ext cx="462240" cy="1233360"/>
          </a:xfrm>
          <a:prstGeom prst="downArrow">
            <a:avLst>
              <a:gd name="adj1" fmla="val 50000"/>
              <a:gd name="adj2" fmla="val 667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90720" y="2579760"/>
            <a:ext cx="463680" cy="1230120"/>
          </a:xfrm>
          <a:prstGeom prst="downArrow">
            <a:avLst>
              <a:gd name="adj1" fmla="val 50000"/>
              <a:gd name="adj2" fmla="val 663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135840" y="2209680"/>
            <a:ext cx="1520640" cy="990720"/>
            <a:chOff x="6135840" y="2209680"/>
            <a:chExt cx="1520640" cy="990720"/>
          </a:xfrm>
        </p:grpSpPr>
        <p:sp>
          <p:nvSpPr>
            <p:cNvPr id="77" name=""/>
            <p:cNvSpPr/>
            <p:nvPr/>
          </p:nvSpPr>
          <p:spPr>
            <a:xfrm flipV="1">
              <a:off x="6135840" y="2209680"/>
              <a:ext cx="152064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76600" y="2382840"/>
              <a:ext cx="1215360" cy="693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61800" y="3801960"/>
            <a:ext cx="693720" cy="9432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270160" y="2197080"/>
            <a:ext cx="1520640" cy="990720"/>
            <a:chOff x="2270160" y="2197080"/>
            <a:chExt cx="1520640" cy="990720"/>
          </a:xfrm>
        </p:grpSpPr>
        <p:sp>
          <p:nvSpPr>
            <p:cNvPr id="81" name=""/>
            <p:cNvSpPr/>
            <p:nvPr/>
          </p:nvSpPr>
          <p:spPr>
            <a:xfrm flipV="1">
              <a:off x="2270160" y="2197080"/>
              <a:ext cx="152064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35760" y="2311560"/>
              <a:ext cx="1215000" cy="693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7920" y="6426360"/>
            <a:ext cx="17683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259160" y="1874880"/>
            <a:ext cx="1514520" cy="833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53120" y="5478480"/>
            <a:ext cx="1513080" cy="831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8002440" y="5481720"/>
            <a:ext cx="1513080" cy="83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71440" y="5481720"/>
            <a:ext cx="1792440" cy="830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2880" y="3813120"/>
            <a:ext cx="9344160" cy="936720"/>
          </a:xfrm>
          <a:prstGeom prst="roundRect">
            <a:avLst>
              <a:gd name="adj" fmla="val 16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900" spc="-1" strike="noStrike">
                <a:solidFill>
                  <a:srgbClr val="000000"/>
                </a:solidFill>
                <a:latin typeface="Arial Narrow"/>
              </a:rPr>
              <a:t>Science &amp; Technology Center in Ukrain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696000" y="4751280"/>
            <a:ext cx="428400" cy="726840"/>
            <a:chOff x="6696000" y="4751280"/>
            <a:chExt cx="428400" cy="726840"/>
          </a:xfrm>
        </p:grpSpPr>
        <p:sp>
          <p:nvSpPr>
            <p:cNvPr id="90" name=""/>
            <p:cNvSpPr/>
            <p:nvPr/>
          </p:nvSpPr>
          <p:spPr>
            <a:xfrm>
              <a:off x="6696000" y="4751280"/>
              <a:ext cx="194760" cy="726840"/>
            </a:xfrm>
            <a:prstGeom prst="downArrow">
              <a:avLst>
                <a:gd name="adj1" fmla="val 50000"/>
                <a:gd name="adj2" fmla="val 932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0000" y="4751280"/>
              <a:ext cx="194400" cy="726840"/>
            </a:xfrm>
            <a:prstGeom prst="downArrow">
              <a:avLst>
                <a:gd name="adj1" fmla="val 50000"/>
                <a:gd name="adj2" fmla="val 93472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955800" y="4751280"/>
            <a:ext cx="426600" cy="728280"/>
            <a:chOff x="955800" y="4751280"/>
            <a:chExt cx="426600" cy="728280"/>
          </a:xfrm>
        </p:grpSpPr>
        <p:sp>
          <p:nvSpPr>
            <p:cNvPr id="93" name=""/>
            <p:cNvSpPr/>
            <p:nvPr/>
          </p:nvSpPr>
          <p:spPr>
            <a:xfrm>
              <a:off x="955800" y="4751280"/>
              <a:ext cx="193680" cy="728280"/>
            </a:xfrm>
            <a:prstGeom prst="downArrow">
              <a:avLst>
                <a:gd name="adj1" fmla="val 50000"/>
                <a:gd name="adj2" fmla="val 940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89080" y="4751280"/>
              <a:ext cx="193320" cy="728280"/>
            </a:xfrm>
            <a:prstGeom prst="downArrow">
              <a:avLst>
                <a:gd name="adj1" fmla="val 50000"/>
                <a:gd name="adj2" fmla="val 94181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8620200" y="2467080"/>
            <a:ext cx="461880" cy="1346040"/>
          </a:xfrm>
          <a:prstGeom prst="downArrow">
            <a:avLst>
              <a:gd name="adj1" fmla="val 50000"/>
              <a:gd name="adj2" fmla="val 72857"/>
            </a:avLst>
          </a:prstGeom>
          <a:gradFill rotWithShape="0">
            <a:gsLst>
              <a:gs pos="0">
                <a:srgbClr val="8194f1"/>
              </a:gs>
              <a:gs pos="100000">
                <a:srgbClr val="7486d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50760" y="2476440"/>
            <a:ext cx="463680" cy="1346400"/>
          </a:xfrm>
          <a:prstGeom prst="downArrow">
            <a:avLst>
              <a:gd name="adj1" fmla="val 50000"/>
              <a:gd name="adj2" fmla="val 72593"/>
            </a:avLst>
          </a:prstGeom>
          <a:gradFill rotWithShape="0">
            <a:gsLst>
              <a:gs pos="0">
                <a:srgbClr val="8194f1"/>
              </a:gs>
              <a:gs pos="100000">
                <a:srgbClr val="7c8ee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417600" y="1862280"/>
            <a:ext cx="1514520" cy="83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8089920" y="1893960"/>
            <a:ext cx="1504800" cy="831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95960" y="6389640"/>
            <a:ext cx="14940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37360" y="6404040"/>
            <a:ext cx="143532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681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60880" y="270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64560" y="270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25680" y="5486040"/>
            <a:ext cx="1338120" cy="832320"/>
            <a:chOff x="2425680" y="5486040"/>
            <a:chExt cx="1338120" cy="832320"/>
          </a:xfrm>
        </p:grpSpPr>
        <p:pic>
          <p:nvPicPr>
            <p:cNvPr id="105" name="" descr=""/>
            <p:cNvPicPr/>
            <p:nvPr/>
          </p:nvPicPr>
          <p:blipFill>
            <a:blip r:embed="rId8"/>
            <a:stretch/>
          </p:blipFill>
          <p:spPr>
            <a:xfrm>
              <a:off x="2425680" y="5486400"/>
              <a:ext cx="133812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flipV="1">
              <a:off x="3763800" y="5486040"/>
              <a:ext cx="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71440" y="548964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1440" y="631332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4122720" y="5495760"/>
            <a:ext cx="1655640" cy="817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32160" y="6381720"/>
            <a:ext cx="1357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d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740120" y="4751280"/>
            <a:ext cx="428400" cy="736200"/>
            <a:chOff x="4740120" y="4751280"/>
            <a:chExt cx="428400" cy="736200"/>
          </a:xfrm>
        </p:grpSpPr>
        <p:sp>
          <p:nvSpPr>
            <p:cNvPr id="112" name=""/>
            <p:cNvSpPr/>
            <p:nvPr/>
          </p:nvSpPr>
          <p:spPr>
            <a:xfrm>
              <a:off x="4740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74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91A-2498-4380-BEBF-B663D6CEC8E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988F3-D27F-485A-A414-6F372816B5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can app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CU Recipient Par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mit project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an institute, university, design office, state enterprise, corporation, firm, fund, foundation, or other legally-registered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organizations, in one or more STCU recipient countries, may submit a ‘joint proposal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tea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manag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velop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grant recipients must be citizens of an STCU recipient count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30%, preferably 50%, of the team must formerly have been involved with weapons of mass destruction and their means of deli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 scientists may participate;  they can even form and lead their own teams, so long as the resultant team meets STCU guide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t Propos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 small groups of scientists to compete effectively, by allowing them to add resources from other organizations to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fficient numbers of former weapons scientists to meet STCU guidelin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s with skills or abilities critical to achieve project obj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E3C-53CD-410D-A5FB-1D098037A42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52444-92ED-4DE2-B5B6-475B770D70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Collaborative Scientific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jects are funded by governments of Financing Pa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jects are fund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te-sect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s in the territories of the Financing Pa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08160" y="4005360"/>
            <a:ext cx="3816360" cy="1633320"/>
          </a:xfrm>
          <a:prstGeom prst="hexagon">
            <a:avLst>
              <a:gd name="adj" fmla="val 58414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men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95840" y="5025960"/>
            <a:ext cx="3529080" cy="1513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Governmental Partner 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20880" y="4910040"/>
            <a:ext cx="3025800" cy="14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D21-4BEF-402E-A7A5-A48D3ADD9DF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D3847-729C-4822-ADB7-D3B83DB186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types of STCU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for funding based on multiple considerations, which may include technical merit, contribution to non-proliferation aims, policy priorities, potential for integration of scientists into global science community, commercial potential or prospect for sustain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 competes with all other regular project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pots of money, separate r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Government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mpetition; just need to locate willing partner to finance project &amp; receive STCU appro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84560" y="4149720"/>
            <a:ext cx="1228680" cy="525600"/>
          </a:xfrm>
          <a:prstGeom prst="hexagon">
            <a:avLst>
              <a:gd name="adj" fmla="val 58442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5067360"/>
            <a:ext cx="1219320" cy="52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73600" y="1557360"/>
            <a:ext cx="8636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9A6-FA8C-44FA-9CFA-D97138CA93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BD238-720B-42FD-970D-53E342F577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Supplemental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workshops and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making services for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missions and trade sh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up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2160" y="5477040"/>
            <a:ext cx="784548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r Weapons Scientists who have not received STCU project funding may participate in many of these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4C9-5486-4BC1-9572-0CE904F883D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EC754-2638-4AB4-A9AA-5248981D33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0:44:12Z</dcterms:created>
  <dc:creator>Chris Stuebner</dc:creator>
  <dc:description/>
  <dc:language>en-US</dc:language>
  <cp:lastModifiedBy>Chris Stuebner</cp:lastModifiedBy>
  <dcterms:modified xsi:type="dcterms:W3CDTF">2005-03-07T12:18:58Z</dcterms:modified>
  <cp:revision>39</cp:revision>
  <dc:subject/>
  <dc:title>Grant-Writing Workshop:  Competing More Effectively</dc:title>
</cp:coreProperties>
</file>