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7DD08-C82F-4F4B-8A7D-1C80A655F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011F3-8F91-44F0-BA99-190863ACD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C2BE8-DDC3-421A-BB61-4981D00EE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17AF3-3F0D-4B1D-8982-86B540C3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AB95F-C12F-410E-A592-C31093BC3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30A7-12C8-4D0C-A418-A816796F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BA2F-F2A0-4E69-92FE-30771A78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A7D7-89AB-40F0-80BD-3E4034B18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93CDA-F67A-452F-A214-59E3BDB1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0BAF-0B8F-496E-AF89-383D21C7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FE48-6704-4673-BAFF-CA4080BA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9A74-A53E-4BF3-9993-47722CBD2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C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0681-2940-4870-8C27-918ADB885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nefits of Keeping a Thorough Scientific Notebook</a:t>
            </a:r>
            <a:endParaRPr b="0" lang="en-US" sz="3600" spc="-1" strike="noStrike">
              <a:solidFill>
                <a:srgbClr val="000000"/>
              </a:solidFill>
              <a:latin typeface="Arial Black"/>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 detailed scientific notebook is your best evidence of the work you have don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allows you to quickly retrieve experimental concepts, designs, data, and interpretations.</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keeps all relevant information in once plac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is an essential piece of evidence for patent application.</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Table of Figures/Tables</a:t>
            </a:r>
            <a:endParaRPr b="0" lang="en-US" sz="2800" spc="-1" strike="noStrike">
              <a:solidFill>
                <a:srgbClr val="000000"/>
              </a:solidFill>
              <a:latin typeface="Arial Black"/>
            </a:endParaRPr>
          </a:p>
        </p:txBody>
      </p:sp>
      <p:sp>
        <p:nvSpPr>
          <p:cNvPr id="6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6</a:t>
            </a:r>
            <a:endParaRPr b="1" lang="en-US" sz="32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of Figures &amp; Tables</a:t>
            </a:r>
            <a:endParaRPr b="1" lang="en-US" sz="24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1  “Title”                14</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  “Title”                18</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 “Title”                 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6 “Title”             9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2  “Title”             121</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XX “Title”            166</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ical Data Entry Page</a:t>
            </a:r>
            <a:endParaRPr b="0" lang="en-US" sz="3600" spc="-1" strike="noStrike">
              <a:solidFill>
                <a:srgbClr val="000000"/>
              </a:solidFill>
              <a:latin typeface="Arial Black"/>
            </a:endParaRPr>
          </a:p>
        </p:txBody>
      </p:sp>
      <p:sp>
        <p:nvSpPr>
          <p:cNvPr id="6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xperiment or Data Entry/Calcul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Making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Conducting Experimen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Relation to Overall Projec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pothesi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erimental Design including Equipment Us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Record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Interpret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lusion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xt logical step(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gnature of Entry Writer  and Signature of Witness</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a:t>
            </a:r>
            <a:endParaRPr b="0" lang="en-US" sz="3600" spc="-1" strike="noStrike">
              <a:solidFill>
                <a:srgbClr val="000000"/>
              </a:solidFill>
              <a:latin typeface="Arial Black"/>
            </a:endParaRPr>
          </a:p>
        </p:txBody>
      </p:sp>
      <p:sp>
        <p:nvSpPr>
          <p:cNvPr id="6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st experiments require more than one day.  Only enter what you have for that day.  Data can be entered in a later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ience is hypothesis driven.  You should derive all experiments from attempting to test your hypothes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ften you will use the same experimental procedure repetitively.  You must describe it in sufficient detail in the first entry in the notebook that it can be reproduced with only the notebook as a guide.</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 (cont.)</a:t>
            </a:r>
            <a:endParaRPr b="0" lang="en-US" sz="3600" spc="-1" strike="noStrike">
              <a:solidFill>
                <a:srgbClr val="000000"/>
              </a:solidFill>
              <a:latin typeface="Arial Black"/>
            </a:endParaRPr>
          </a:p>
        </p:txBody>
      </p:sp>
      <p:sp>
        <p:nvSpPr>
          <p:cNvPr id="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data is gathered and interpreted one of more days after the experiment is started, you must begin a new entry.  At the top of the data entry page link to previous entry by using “Continued from page XX”.</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your interpretation of data avoid unwarranted speculation.  Your interpretations and conclusions should be made in the context of the hypothesis.</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lain how these results have shaped new ideas for experiments or or hypotheses.  </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hen you record the experimental design needed to test these new ideas, link to previous entry by including “Experiment based on results from page XX”.</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Page</a:t>
            </a:r>
            <a:endParaRPr b="0" lang="en-US" sz="3600" spc="-1" strike="noStrike">
              <a:solidFill>
                <a:srgbClr val="000000"/>
              </a:solidFill>
              <a:latin typeface="Arial Black"/>
            </a:endParaRPr>
          </a:p>
        </p:txBody>
      </p:sp>
      <p:sp>
        <p:nvSpPr>
          <p:cNvPr id="68" name="PlaceHolder 2"/>
          <p:cNvSpPr>
            <a:spLocks noGrp="1"/>
          </p:cNvSpPr>
          <p:nvPr>
            <p:ph/>
          </p:nvPr>
        </p:nvSpPr>
        <p:spPr>
          <a:xfrm>
            <a:off x="2743200" y="914040"/>
            <a:ext cx="3733920" cy="518148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itle of Experiment</a:t>
            </a:r>
            <a:endParaRPr b="1" lang="en-US" sz="2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e of Experiment      Date of Entry</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 conducted by 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cord Entered by:  ______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cept/Idea and Relation to Project:</a:t>
            </a: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ypothesis: </a:t>
            </a:r>
            <a:r>
              <a:rPr b="1" lang="en-US" sz="1600" spc="-1" strike="noStrike">
                <a:solidFill>
                  <a:srgbClr val="000000"/>
                </a:solidFill>
                <a:latin typeface="Arial Narrow"/>
              </a:rPr>
              <a:t>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gn. of Recorder               Sign. Of Witness</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1</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al Design and Parameters:</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ul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Figure, or raw data if available at this date.</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pretation: 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2</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w Ideas and Future Experimen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Later Data Entry Page</a:t>
            </a:r>
            <a:endParaRPr b="0" lang="en-US" sz="3200" spc="-1" strike="noStrike">
              <a:solidFill>
                <a:srgbClr val="000000"/>
              </a:solidFill>
              <a:latin typeface="Arial Black"/>
            </a:endParaRPr>
          </a:p>
        </p:txBody>
      </p:sp>
      <p:sp>
        <p:nvSpPr>
          <p:cNvPr id="7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Y</a:t>
            </a:r>
            <a:endParaRPr b="1" lang="en-US" sz="32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tinued from page xx.</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Results:  Enter as table, figure or other form.</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clusion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ew Ideas or Experiment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Note – Follow all other conventions for entering data pages}</a:t>
            </a: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minders on Log Entries</a:t>
            </a:r>
            <a:endParaRPr b="0" lang="en-US" sz="3600" spc="-1" strike="noStrike">
              <a:solidFill>
                <a:srgbClr val="000000"/>
              </a:solidFill>
              <a:latin typeface="Arial Black"/>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entries in your lab book EVERY DAY.</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ach page should be signed and witnessed by another investigator, preferably not a direct subordinate or superviso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greater the detail the bette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ver skip pages to save room for data.  Enter information chronological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Indices</a:t>
            </a:r>
            <a:endParaRPr b="0" lang="en-US" sz="3600" spc="-1" strike="noStrike">
              <a:solidFill>
                <a:srgbClr val="000000"/>
              </a:solidFill>
              <a:latin typeface="Arial Black"/>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Major Sub-projec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Key Data and Conclusion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s of a Reliable Scientific Notebook</a:t>
            </a:r>
            <a:endParaRPr b="0" lang="en-US" sz="3600" spc="-1" strike="noStrike">
              <a:solidFill>
                <a:srgbClr val="000000"/>
              </a:solidFill>
              <a:latin typeface="Arial Black"/>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notebook should be a bound book with non-removable page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t should be made of acid-free paper to prolong its life.</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ges should be pre-printed with consecutive number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riting should be limited to one side of a sheet.  The facing sheet can be used to hold figures, tables, or explanations added after the fact.</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dices</a:t>
            </a:r>
            <a:endParaRPr b="0" lang="en-US" sz="3600" spc="-1" strike="noStrike">
              <a:solidFill>
                <a:srgbClr val="000000"/>
              </a:solidFill>
              <a:latin typeface="Arial Black"/>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 -  </a:t>
            </a:r>
            <a:r>
              <a:rPr b="1" lang="en-US" sz="2400" spc="-1" strike="noStrike">
                <a:solidFill>
                  <a:srgbClr val="000000"/>
                </a:solidFill>
                <a:latin typeface="Arial Narrow"/>
              </a:rPr>
              <a:t>This will refer you to the detailed description for each major experimental method you design.  Will allow you to find methods quickl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Sub-Projects  -  </a:t>
            </a:r>
            <a:r>
              <a:rPr b="1" lang="en-US" sz="2400" spc="-1" strike="noStrike">
                <a:solidFill>
                  <a:srgbClr val="000000"/>
                </a:solidFill>
                <a:latin typeface="Arial Narrow"/>
              </a:rPr>
              <a:t>You may conduct several types of projects, all related to the main project at once.  This index will allow you to easily find those sets of experiments and data that are natural continuations of each oth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3200" spc="-1" strike="noStrike">
                <a:solidFill>
                  <a:srgbClr val="000000"/>
                </a:solidFill>
                <a:latin typeface="Arial Narrow"/>
              </a:rPr>
              <a:t>Index of Key Data and Conclusions -  </a:t>
            </a:r>
            <a:r>
              <a:rPr b="1" lang="en-US" sz="2400" spc="-1" strike="noStrike">
                <a:solidFill>
                  <a:srgbClr val="000000"/>
                </a:solidFill>
                <a:latin typeface="Arial Narrow"/>
              </a:rPr>
              <a:t>This index will help you find those critical bits of information that shape the direction of your research.</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xample of Experimental Methods Index Page</a:t>
            </a:r>
            <a:endParaRPr b="0" lang="en-US" sz="2400" spc="-1" strike="noStrike">
              <a:solidFill>
                <a:srgbClr val="000000"/>
              </a:solidFill>
              <a:latin typeface="Arial Black"/>
            </a:endParaRPr>
          </a:p>
        </p:txBody>
      </p:sp>
      <p:sp>
        <p:nvSpPr>
          <p:cNvPr id="8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Experm.  Methods</a:t>
            </a: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6</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33</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41</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88</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Sub-Project Index</a:t>
            </a:r>
            <a:endParaRPr b="0" lang="en-US" sz="3200" spc="-1" strike="noStrike">
              <a:solidFill>
                <a:srgbClr val="000000"/>
              </a:solidFill>
              <a:latin typeface="Arial Black"/>
            </a:endParaRPr>
          </a:p>
        </p:txBody>
      </p:sp>
      <p:sp>
        <p:nvSpPr>
          <p:cNvPr id="8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Sub-Projec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Protein Purification of Enzyme X.</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9, 21-22, 33-37, 182-185, 190-191</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Wind Turbine Efficiency</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14, 44-47, 55-60, 91-99, 155-160  </a:t>
            </a:r>
            <a:endParaRPr b="1" lang="en-US" sz="20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Major Concept Index</a:t>
            </a:r>
            <a:endParaRPr b="0" lang="en-US" sz="3200" spc="-1" strike="noStrike">
              <a:solidFill>
                <a:srgbClr val="000000"/>
              </a:solidFill>
              <a:latin typeface="Arial Black"/>
            </a:endParaRPr>
          </a:p>
        </p:txBody>
      </p:sp>
      <p:sp>
        <p:nvSpPr>
          <p:cNvPr id="8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dex of Major Concepts and Breakthroughs</a:t>
            </a:r>
            <a:endParaRPr b="1" lang="en-US" sz="2800" spc="-1" strike="noStrike">
              <a:solidFill>
                <a:srgbClr val="000000"/>
              </a:solidFill>
              <a:latin typeface="Arial Narrow"/>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Key to Increased Cell Efficiency  18</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rovement in Method X            7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ffect of Mg++                             13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itical Energy Threshold          145</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n you Fill a Notebook</a:t>
            </a:r>
            <a:endParaRPr b="0" lang="en-US" sz="3600" spc="-1" strike="noStrike">
              <a:solidFill>
                <a:srgbClr val="000000"/>
              </a:solidFill>
              <a:latin typeface="Arial Black"/>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ify your Project Leader that you need a new lab notebook.</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ve him/her indicate on the cover page the date completed and receiv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he previous notebook as a reference for future experiments, you should sign it out from the Project Lead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gin a new note book as previously described, but on the cover page indicate Notebook # 2 or whatever number is appropriate.</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write common methods the first time recorded in a new notebook.  This will save looking back through previous books to find a method.</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Notebook Habits</a:t>
            </a:r>
            <a:endParaRPr b="0" lang="en-US" sz="3600" spc="-1" strike="noStrike">
              <a:solidFill>
                <a:srgbClr val="000000"/>
              </a:solidFill>
              <a:latin typeface="Arial Black"/>
            </a:endParaRPr>
          </a:p>
        </p:txBody>
      </p:sp>
      <p:sp>
        <p:nvSpPr>
          <p:cNvPr id="9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rve the last few minutes of each work day to make your notebook entry.  Don’t wait a few days, you will forget critical information.</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make an error in an entry, strike through it with a single line so that the old entry is readable.  Often a first idea proves important.  If erased it cannot be recovered.</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o add additional ideas after the fact, use the facing page and add the date of the entry.</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very detail, no matter how insignificant it seems at the time may be critical.  Enter your experiments that don’t work as well as those that do.  These may be revealing later.</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 -  Why?</a:t>
            </a:r>
            <a:endParaRPr b="0" lang="en-US" sz="3600" spc="-1" strike="noStrike">
              <a:solidFill>
                <a:srgbClr val="000000"/>
              </a:solidFill>
              <a:latin typeface="Arial Black"/>
            </a:endParaRPr>
          </a:p>
        </p:txBody>
      </p:sp>
      <p:sp>
        <p:nvSpPr>
          <p:cNvPr id="9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ientists can only depend on data they record and can reproduce.  Poor notebook habits lead to poor resul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cording the experiments, their data and results, and their interpretations is just as important as conducting the experimen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You and your Project Leader are accountable to STCU for and the supporting governments for the funds you receive.  Detailed notebooks are essential for accountabilit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atent applications require detailed documentation of when and how discoveries, processes, or inventions are developed.  It is nearly impossible to obtain patents without detailed notebooks following a standard format as described here.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per Tools for Recording Data</a:t>
            </a:r>
            <a:endParaRPr b="0" lang="en-US" sz="3600" spc="-1" strike="noStrike">
              <a:solidFill>
                <a:srgbClr val="000000"/>
              </a:solidFill>
              <a:latin typeface="Arial Black"/>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l entries should be recorded in indelible in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s, figures, and photographs, should either be drawn into the text page, or attached to a subsequent page or facing page with acid-free glue or tap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ntries should be made legib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ts of the Laboratory Notebook</a:t>
            </a:r>
            <a:endParaRPr b="0" lang="en-US" sz="3600" spc="-1" strike="noStrike">
              <a:solidFill>
                <a:srgbClr val="000000"/>
              </a:solidFill>
              <a:latin typeface="Arial Black"/>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ver Pag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Figures and Tabl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Pag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ver Page</a:t>
            </a:r>
            <a:endParaRPr b="0" lang="en-US" sz="3600" spc="-1" strike="noStrike">
              <a:solidFill>
                <a:srgbClr val="000000"/>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ject Titl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b-section of Project Addressed in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mary Investigator for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of Start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for End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umber of Notebook in Sequential Serie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Cover Page</a:t>
            </a:r>
            <a:endParaRPr b="0" lang="en-US" sz="3600" spc="-1" strike="noStrike">
              <a:solidFill>
                <a:srgbClr val="000000"/>
              </a:solidFill>
              <a:latin typeface="Arial Black"/>
            </a:endParaRPr>
          </a:p>
        </p:txBody>
      </p:sp>
      <p:sp>
        <p:nvSpPr>
          <p:cNvPr id="5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endParaRPr b="1" lang="en-US" sz="32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arch Project Titl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ividual Portion of the Research Project</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vestigator’s Nam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rst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nal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ebook 1 of _____</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Contents</a:t>
            </a:r>
            <a:endParaRPr b="0" lang="en-US" sz="3600" spc="-1" strike="noStrike">
              <a:solidFill>
                <a:srgbClr val="000000"/>
              </a:solidFill>
              <a:latin typeface="Arial Black"/>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erve 2-3 pages at the front of the notebook for a table of contents.  </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finish an entry, record the title for that entry in the table of contents and indicate to the right side of the page the pre-printed pages containing the entry.</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 if you are recording more than one set of experiments in a single notebook, record the table of contents entries in the order conducted, do not attempt to divide the books into sections for sub-project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Table of Contents</a:t>
            </a:r>
            <a:endParaRPr b="0" lang="en-US" sz="3600" spc="-1" strike="noStrike">
              <a:solidFill>
                <a:srgbClr val="000000"/>
              </a:solidFill>
              <a:latin typeface="Arial Black"/>
            </a:endParaRPr>
          </a:p>
        </p:txBody>
      </p:sp>
      <p:sp>
        <p:nvSpPr>
          <p:cNvPr id="5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a:t>
            </a:r>
            <a:endParaRPr b="1" lang="en-US" sz="3200" spc="-1" strike="noStrike">
              <a:solidFill>
                <a:srgbClr val="000000"/>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ver Page                                   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Contents                    2-5</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Figures and Tables   6-8</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1                                       9-1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2                                     11-12</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3                                     13-16</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 . .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Last                              189-19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ex                                      192-200</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Figures and Tables</a:t>
            </a:r>
            <a:endParaRPr b="0" lang="en-US" sz="3600" spc="-1" strike="noStrike">
              <a:solidFill>
                <a:srgbClr val="000000"/>
              </a:solidFill>
              <a:latin typeface="Arial Black"/>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ables and figures are an important way to consolidate a great deal of information into a small amount of space.  </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llowing the Table of Contents, reserve a 3-4 pages for a Table of Figures and Tabl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enter a figure or a table, record its title in this table and indicate the page number to the right side of the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s will become a quick and handy reference section for important data.</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8:24:40Z</dcterms:created>
  <dc:creator>VC/VO</dc:creator>
  <dc:description/>
  <dc:language>en-US</dc:language>
  <cp:lastModifiedBy>VC/VO</cp:lastModifiedBy>
  <dcterms:modified xsi:type="dcterms:W3CDTF">2002-02-25T11:18:48Z</dcterms:modified>
  <cp:revision>3</cp:revision>
  <dc:subject/>
  <dc:title>The Importance of Scientific Record-Keeping</dc:title>
</cp:coreProperties>
</file>