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316-35DC-47E0-84A4-DC2FFCAE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ED8-AC89-440D-8927-E4F4A852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63C-91D0-4FD6-A5B6-51533E36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D7D-A3B3-4808-B74A-741D3EC5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BF0-C3B6-4CC0-88DC-09A083F4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824-F208-4435-918A-E2B73366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B30-1E06-46D9-A75B-9DF8DE22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8DE-A9B9-4DB2-A37D-92B704CC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740-3AE7-4AF4-BD5E-C6222A88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4BB-761F-4CEB-A97D-6D5A93A5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532-8686-409A-9FFC-92C6154A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664-7E67-41CA-A551-B3DFA914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TC/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CCAE-3F0F-45D3-B0A3-185EF42FC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реимущества тщательного ведения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аучного журнал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дробный научный журнал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является лучшим доказательством проделанной Вами работ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н обеспечивает Вам быстрый доступ к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экспериментальным концепция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оекта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анным 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х интерпретац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ся важная информация хранится в одном и том же мес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Журнал – незаменимый источник информац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 подаче заявок на патент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бразец перечня рисунков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аблиц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ечень рисунков и табли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 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14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2 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1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   9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6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99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22 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1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X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6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ипичная страница основной част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ата записи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ата проведения эксперимент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ли записи/рассчёт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то внёс запись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то проводил эксперимен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онцепц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тношение к общему проекту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Гипотез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хема эксперимента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том числе оборудо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фиксированные данные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нтерпретация данных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ывод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следующий (-ие) логический (-ие) шаг (-и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дпись внесшего запись 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 подпись свидетеля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ила фиксирования данных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ля проведения большинства экспериментов требуется больше, чем один ден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писывайте только то, что Вы фактически получили за этот ден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анные также можно добавлять впоследствии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ука – это проверка гипотез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се Ваши эксперименты ставятс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ля проверки Ваших же гипотез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Часто Вы будет прибегать к одной и той же процедуре эксперимент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ы должны описать её достаточно подробно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первой же записи в Вашем журнале для того, чтоб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ё можно было воспроизвести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пираясь только на журнальную запис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ила фиксирования данных (продолжение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сбор и интерпретация данных проводитс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через день или более после начала эксперимен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должны начать новую 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вяжите её с предыдущей записью, сделав отметку наверху страниц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“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должается со стр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X”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водя интерпретацию данных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бегайте ненужных домысл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аши интерпретация и выводы должны быть сделан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олько в контексте данной гипотез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бъясните, каким образом полученные Вами результат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вели к возникновению новых идей о проведении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ли новых гипотез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ывая схему эксперимента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обходимого для проверки этих новых иде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вяжите её с предыдущей записью, сделав отметку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ксперимент основан на тезультатах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исанных на стр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X”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страницы основной част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3733920" cy="5181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азвание эксперимент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ата эксперимента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ата записи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ем проведён эксперимент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________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ем сделана запис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 _____________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нцепция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дея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её отношение к проекту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ипотеза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страницы основной части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продолжение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+1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хема и параметры эксперимента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XXXXX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XXXXX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XXXXX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езультат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ли необработанные данны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если таковые имеются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нтерпретац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xxxxxxxxxx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страницы основной части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продолжение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+2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овые идеи и будущие эксперимент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xxxxxxxxxxxxxxxxxxxxx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xxxxxxxxxxxxxxxxxxxxx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будущей страницы основной част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Продолжается со стр.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xx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Результаты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: 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нести в форме таблицы, рисунка и т.п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ыводы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Новые идеи или эксперименты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{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римечание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ледуйте всем прочим правилам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для страниц основной части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амятка о внесении записей в журнал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носите записи в Ваш лабораторный журнал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АЖДЫЙ ДЕН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аждая страница должна быть подписана и засвидетельствована ещё одним исследователе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желательно не Вашим прямым подчинённым или начальнико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Чем больше подробностей – тем лучш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икогда не пропускайте страниц, чтобы оставить место для данных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носите информацию в хронологическом порядк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иды указателей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экспериментальных процедур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основных подпроектов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ключевых данных и выводов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Характерные особенности надёжного научного журнал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Журнал должен быть в переплёте;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из него не должны легко изыматьс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умага должна быть бескислотной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что продлит жизнь журнал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должны быть пронумерованы типографским способо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писи должны вестись только на одной стороне лист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а соседнюю страницу впоследствии могут добавлятьс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цифр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аблиц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ли комментар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Указател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экспериментальных процедур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-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т указатель переадресует Вас к подробному описанию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ждого из предусмотренных Вами основных методов эксперимен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н позволит быстро определить суть метод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подпроектов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-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можете осуществлять ряд проек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рамках одного главного проек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т указатель позволит Вам быстро най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исания тех серий экспериментов и данных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торые естественным образом продолжают друг друг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ключевых данных и выводов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-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т указатель позволит Вам най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е критически важные единицы информации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торые определяют направление Вашего исследовани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ец страницы указателя экспериментальных метод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Указатель эксп. методов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______ 16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______ 33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______ 41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18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бразец указателя подпроектов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Указатель подпроектов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нные об очистке белк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фермен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7-9, 21-22, 33-37, 182-185, 190-19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нные об эффективности воздушной турбины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-14, 44-47, 55-60, 91-99, 155-160 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бразец указателя основных концепций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казатель основных концепций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 открытий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ажнейший элемент повышения эффективности клетк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совершенствование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етодик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            73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ффект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Mg++                             133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ритический порог энерги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145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Когда журнал заканчиваетс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общите руководителю проекта, что Вам нужен новый лабораторный журнал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 титульной странице он/она должен/должна указат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ту закрытия и получения ими журнал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старый журнал Вам нужен дл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правок при проведении новых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ам следует получить его под расписку у руководителя проек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чните новый журнал согласно приведённым ранее инструкция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о на титульной странице сделайте надпись «Журнал №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ли проставьте другой соответствующий номер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несите в новый журнал описание основных методов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начально сделанное в первом журнале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 избавит Вас от необходимости просматривать предыдущие журналы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чтобы найти описание метод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олезные привычк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сколько последних минут каждого рабочего дня должны быть оставлен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ля внесения записей в журнал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 откладывайте эту задачу на несколько дне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забудете важную информацию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Вы сделали ошибку при внесении данных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черкните её одной чертой так, чтобы перечёркнутую цифру можно было прочест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воначальные данные часто оказываются важным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их стереть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осстановление может оказаться невозможны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после всего требуется введение дополнительной информаци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спользуйте для этого соседнюю страниц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 укажите дату новой запис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ждая подробность может оказаться важно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смотря на то, насколько незначительной она представляется поначал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елайте записи о неудачных экспериментах так же тщательно, как и об удачных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последствии эта информация может оказаться ценно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зюме: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а зачем это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чёные могут полагаться только на те данные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торые они зафиксировали и могут воспроизвес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лохие привычки при ведении журнал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едут к плохим результата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Фиксирование хода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х данных и результа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а также их интерпретаци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толь же важны, как и само проведение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лично и руководитель Вашего проекта отвечаете перед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НТЦ/НТЦ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 перед финансирующим вас правительство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 полученные средств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робные журналы чрезвычайно важны для отчётнос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 рассмотрении заявок на выдачу пат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ребуется изучение подробной документации о том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гда и как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ткрыти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цессы или изобретения происходил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лучение патентов представляется почти невозможны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без предоставления подробных журналов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готовленных по описанному здесь стандартному формат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Инструмент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иксирования информаци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се записи должны делаться нестираемыми чернилами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аблицы, рисунки и фотографии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лжны либо идти по тексту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либо прикрепляться к следующей или соседней странице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бескислотным клеем или липкой лентой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Записи должны делаться разборчиво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асти лабораторного журнал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итульный лист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еречень рисунков и таблиц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сновная часть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Титульный лис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звание проект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аздел проекта,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свещаемый в журнале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мя и фамилия исследователя, ответственного за ведение журнал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та первой записи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та последней записи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орядковый номер журнал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бразец титульной страниц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 проект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здел проекта, освещаемый в журнале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я/фамилия исследователя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та первой записи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XX/XX/XXX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та послед. запис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X/XX/XXX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Журнал №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1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_____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ставь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2-3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в начале журнал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ля содержани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оизведя очередную запис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фиксируйте её название в содержан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 справа укажи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омер соответствующей страниц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аже если один журнал служит Вам для записи информации о более чем одной серии экспериментов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едите содержание в хронологическом порядк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е пытайтесь разбивать его на част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 соответствии с мелкими подпроектам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Образец содержани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итульная страница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   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держание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      2-5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чень рисунков и таблиц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6-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1                                      9-1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2                                    11-1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3                                    13-16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. . .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следняя 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189-19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казател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               192-200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еречень рисунков и табли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аблицы и рисунки –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личный способ сведения больших количеств информац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оедино на маленьком пространств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азу после содержани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ставь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для перечня рисунков и табли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 внесении данных в таблицу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фиксируй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азвание таблицы в перечне и справа укажите номер страниц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аким образом Вы создадите удобную систему быстрого получени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ужных данных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8:24:40Z</dcterms:created>
  <dc:creator>VC/VO</dc:creator>
  <dc:description/>
  <dc:language>en-US</dc:language>
  <cp:lastModifiedBy>CBJ</cp:lastModifiedBy>
  <dcterms:modified xsi:type="dcterms:W3CDTF">2003-01-14T07:39:28Z</dcterms:modified>
  <cp:revision>43</cp:revision>
  <dc:subject/>
  <dc:title>The Importance of Scientific Record-Keeping</dc:title>
</cp:coreProperties>
</file>